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ar-S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BF8AD-BD8F-4327-A58B-F9582216A9A8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8589C-E365-4AEF-A8FC-0F6960BCEE72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3307D-FB99-4CBC-B1E5-7E8E2747718D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DBE38-86C4-40D6-91FC-F449A7F6F469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65343-BECA-427C-8C41-A458E3D0C0AC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40DAA-0CE4-4366-9635-80F869EA9CA5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B3121-C7BD-488F-8544-D6A723B77176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B6C53-7912-4C42-B16A-89F2DDFD4911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52DE5-50D7-41C1-8305-CE31DEB1C0E6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BD9B2-19BE-48C4-BE5A-8F5DB1E7BA15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8EABC-A0C7-476A-8ECC-27ABFC20B8D7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2EE46-7AE5-40A1-AD91-582AF16DE622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BF530-268E-4F4D-9E82-E5FD44DE502A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A32DB-D1FE-44C9-B7C8-30DE6ABDBBDD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E46C8-0200-43F3-A14C-AD57DF4FB857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B0D3A-9796-46E6-AD33-A64AB9A1DB83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0659D-955D-4368-9ACB-F9EBE13E4A54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F1C54-27C2-40E4-B8ED-9717F1144F13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27459-C9B5-4AB2-9E8D-625DB2C1010B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3287A-5C01-4770-A630-4A792C297ECF}" type="slidenum">
              <a:rPr b="0" lang="fa-I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84A-6922-42AB-A561-B85C913D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8A8-448B-42B3-903B-7B02D8A4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1FA-A75A-44C8-AF30-6156DEE1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E0A-36ED-43E0-AB93-F0C17EDA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326-19A7-48E1-8233-B32E908B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36C-632F-4250-9E54-1C62F23A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A19-EFE3-4C53-ADE1-708273AC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543-EDA0-43B0-A480-D0AE45DC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485-DCA8-40F6-8D4E-9401D794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895-EAF1-4E9A-94C4-B44FFF05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5ED-8780-4475-B3E8-7188D0CD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7D9C-9841-4298-BF3F-9FA9C31B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6632-59EA-4CEE-97BA-C5A4A6F9103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Arial"/>
                <a:ea typeface="Lotus"/>
              </a:rPr>
              <a:t> </a:t>
            </a:r>
            <a:r>
              <a:rPr b="1" lang="fa-IR" sz="5400" spc="-1" strike="noStrike">
                <a:solidFill>
                  <a:srgbClr val="ff9900"/>
                </a:solidFill>
                <a:latin typeface="Arial"/>
                <a:cs typeface="B Titr"/>
              </a:rPr>
              <a:t>الگوي پرس</a:t>
            </a:r>
            <a:r>
              <a:rPr b="1" lang="ar-SA" sz="5400" spc="-1" strike="noStrike">
                <a:solidFill>
                  <a:srgbClr val="ff9900"/>
                </a:solidFill>
                <a:latin typeface="Arial"/>
                <a:cs typeface="B Titr"/>
              </a:rPr>
              <a:t>ي</a:t>
            </a:r>
            <a:r>
              <a:rPr b="1" lang="fa-IR" sz="5400" spc="-1" strike="noStrike">
                <a:solidFill>
                  <a:srgbClr val="ff9900"/>
                </a:solidFill>
                <a:latin typeface="Arial"/>
                <a:cs typeface="B Titr"/>
              </a:rPr>
              <a:t>د/ پروس</a:t>
            </a:r>
            <a:r>
              <a:rPr b="1" lang="ar-SA" sz="5400" spc="-1" strike="noStrike">
                <a:solidFill>
                  <a:srgbClr val="ff9900"/>
                </a:solidFill>
                <a:latin typeface="Arial"/>
                <a:cs typeface="B Titr"/>
              </a:rPr>
              <a:t>ي</a:t>
            </a:r>
            <a:r>
              <a:rPr b="1" lang="fa-IR" sz="5400" spc="-1" strike="noStrike">
                <a:solidFill>
                  <a:srgbClr val="ff9900"/>
                </a:solidFill>
                <a:latin typeface="Arial"/>
                <a:cs typeface="B Titr"/>
              </a:rPr>
              <a:t>د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B Titr"/>
              </a:rPr>
              <a:t> </a:t>
            </a:r>
            <a:r>
              <a:rPr b="0" lang="en-US" sz="4000" spc="-1" strike="noStrike">
                <a:solidFill>
                  <a:srgbClr val="e5ffff"/>
                </a:solidFill>
                <a:latin typeface="Arial"/>
                <a:ea typeface="Lotus"/>
              </a:rPr>
              <a:t>PRECEDE/PROCEED Model </a:t>
            </a:r>
            <a:r>
              <a:rPr b="1" lang="fa-IR" sz="4000" spc="-1" strike="noStrike">
                <a:solidFill>
                  <a:srgbClr val="e5ffff"/>
                </a:solidFill>
                <a:latin typeface="Arial"/>
                <a:ea typeface="Lotus"/>
              </a:rPr>
              <a:t> </a:t>
            </a:r>
            <a:r>
              <a:rPr b="1" lang="fa-IR" sz="5400" spc="-1" strike="noStrike">
                <a:solidFill>
                  <a:srgbClr val="e5ffff"/>
                </a:solidFill>
                <a:latin typeface="Arial"/>
                <a:ea typeface="Lotus"/>
              </a:rPr>
              <a:t> 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835D-BFDA-49D0-8216-DE5DDDB2550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اجرا و ارزش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اب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با انجام مراحل قب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، برنامه آماده اجرا و ارزش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ب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اس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رزش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ب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فرآ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ند که برنامه تا چه اندازه براساس پروتوکل طراح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شده پ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ش رفته است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Lotus"/>
              </a:rPr>
              <a:t>Process Evalu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Lotus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رزش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ب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اثر ت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ند که تغ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ات در عوامل مساعدکننده، تق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کننده و قادرکننده و 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ز عوامل مح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ط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و رفت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چقدر بوده است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Lotus"/>
              </a:rPr>
              <a:t>Impact Evalu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Lotu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رزش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ب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پ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مد ت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ند که اثر برنامه ر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سلامت و 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ف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زند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چقدر بوده است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Lotus"/>
              </a:rPr>
              <a:t>Outcome Evalu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Lotus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936F-F306-437F-A3F3-2E1FEA19C25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4952880" y="1916280"/>
            <a:ext cx="4024440" cy="360360"/>
          </a:xfrm>
          <a:prstGeom prst="leftArrow">
            <a:avLst>
              <a:gd name="adj1" fmla="val 50000"/>
              <a:gd name="adj2" fmla="val 27919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3368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6732720" y="760320"/>
            <a:ext cx="2670480" cy="4324320"/>
            <a:chOff x="6732720" y="760320"/>
            <a:chExt cx="2670480" cy="4324320"/>
          </a:xfrm>
        </p:grpSpPr>
        <p:sp>
          <p:nvSpPr>
            <p:cNvPr id="80" name="Rectangle 6"/>
            <p:cNvSpPr/>
            <p:nvPr/>
          </p:nvSpPr>
          <p:spPr>
            <a:xfrm>
              <a:off x="6732720" y="3370320"/>
              <a:ext cx="2295360" cy="17143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كيفيت زندگي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7308360" y="760320"/>
              <a:ext cx="209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ffffff"/>
                  </a:solidFill>
                  <a:latin typeface="Arial"/>
                </a:rPr>
                <a:t>تشخيص اجتماعي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AutoShape 8"/>
            <p:cNvSpPr/>
            <p:nvPr/>
          </p:nvSpPr>
          <p:spPr>
            <a:xfrm rot="5400000">
              <a:off x="8260920" y="747360"/>
              <a:ext cx="289080" cy="14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8160 h 1476360"/>
                <a:gd name="textAreaBottom" fmla="*/ 143820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>
              <a:off x="8028000" y="1557360"/>
              <a:ext cx="826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1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" name="AutoShape 10"/>
          <p:cNvSpPr/>
          <p:nvPr/>
        </p:nvSpPr>
        <p:spPr>
          <a:xfrm>
            <a:off x="611280" y="981000"/>
            <a:ext cx="4465440" cy="4248360"/>
          </a:xfrm>
          <a:prstGeom prst="wedgeRectCallout">
            <a:avLst>
              <a:gd name="adj1" fmla="val 86759"/>
              <a:gd name="adj2" fmla="val 31652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زندگي ايمن و لذت بخ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راضي بود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داشتن فرصت براي نشاط و آشكار كردن آن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 u="sng">
                <a:solidFill>
                  <a:srgbClr val="ffffff"/>
                </a:solidFill>
                <a:uFillTx/>
                <a:latin typeface="Arial"/>
              </a:rPr>
              <a:t>نشانگر هاي اجتماعي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نشاط و شاد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راحت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اطمينا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اعتماد به نف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موفقيت و دستاور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جر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8A84-D775-4E13-A6F3-EB6EE284D6E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3368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952880" y="711360"/>
            <a:ext cx="4447440" cy="3879360"/>
            <a:chOff x="4952880" y="711360"/>
            <a:chExt cx="4447440" cy="3879360"/>
          </a:xfrm>
        </p:grpSpPr>
        <p:sp>
          <p:nvSpPr>
            <p:cNvPr id="88" name="AutoShape 5"/>
            <p:cNvSpPr/>
            <p:nvPr/>
          </p:nvSpPr>
          <p:spPr>
            <a:xfrm>
              <a:off x="4952880" y="1866960"/>
              <a:ext cx="4024440" cy="360000"/>
            </a:xfrm>
            <a:prstGeom prst="leftArrow">
              <a:avLst>
                <a:gd name="adj1" fmla="val 50000"/>
                <a:gd name="adj2" fmla="val 279475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LANNING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6732720" y="3019320"/>
              <a:ext cx="2295360" cy="1571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800" spc="-1" strike="noStrike">
                  <a:solidFill>
                    <a:srgbClr val="ffffff"/>
                  </a:solidFill>
                  <a:latin typeface="Arial"/>
                </a:rPr>
                <a:t>كيفيت زندگي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Text Box 7"/>
            <p:cNvSpPr/>
            <p:nvPr/>
          </p:nvSpPr>
          <p:spPr>
            <a:xfrm>
              <a:off x="7305480" y="711360"/>
              <a:ext cx="209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ffffff"/>
                  </a:solidFill>
                  <a:latin typeface="Arial"/>
                </a:rPr>
                <a:t>تشخيص اجتماعي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AutoShape 8"/>
            <p:cNvSpPr/>
            <p:nvPr/>
          </p:nvSpPr>
          <p:spPr>
            <a:xfrm rot="5400000">
              <a:off x="8260920" y="698040"/>
              <a:ext cx="288720" cy="14763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38160 h 1476360"/>
                <a:gd name="textAreaBottom" fmla="*/ 143820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8028000" y="1508040"/>
              <a:ext cx="826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1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3" name="Group 10"/>
          <p:cNvGrpSpPr/>
          <p:nvPr/>
        </p:nvGrpSpPr>
        <p:grpSpPr>
          <a:xfrm>
            <a:off x="3851280" y="692280"/>
            <a:ext cx="2881440" cy="4249440"/>
            <a:chOff x="3851280" y="692280"/>
            <a:chExt cx="2881440" cy="4249440"/>
          </a:xfrm>
        </p:grpSpPr>
        <p:sp>
          <p:nvSpPr>
            <p:cNvPr id="94" name="Line 11"/>
            <p:cNvSpPr/>
            <p:nvPr/>
          </p:nvSpPr>
          <p:spPr>
            <a:xfrm flipV="1">
              <a:off x="6127920" y="3933360"/>
              <a:ext cx="604800" cy="27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5" name="Group 12"/>
            <p:cNvGrpSpPr/>
            <p:nvPr/>
          </p:nvGrpSpPr>
          <p:grpSpPr>
            <a:xfrm>
              <a:off x="3851280" y="692280"/>
              <a:ext cx="2386080" cy="4249440"/>
              <a:chOff x="3851280" y="692280"/>
              <a:chExt cx="2386080" cy="4249440"/>
            </a:xfrm>
          </p:grpSpPr>
          <p:sp>
            <p:nvSpPr>
              <p:cNvPr id="96" name="Rectangle 13"/>
              <p:cNvSpPr/>
              <p:nvPr/>
            </p:nvSpPr>
            <p:spPr>
              <a:xfrm>
                <a:off x="3995640" y="2781360"/>
                <a:ext cx="2124000" cy="216036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مشكل بهداشتي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Text Box 14"/>
              <p:cNvSpPr/>
              <p:nvPr/>
            </p:nvSpPr>
            <p:spPr>
              <a:xfrm>
                <a:off x="3924360" y="692280"/>
                <a:ext cx="2190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تشخيص اپيدميولوژي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AutoShape 15"/>
              <p:cNvSpPr/>
              <p:nvPr/>
            </p:nvSpPr>
            <p:spPr>
              <a:xfrm rot="5400000">
                <a:off x="4806720" y="485640"/>
                <a:ext cx="474840" cy="2386080"/>
              </a:xfrm>
              <a:custGeom>
                <a:avLst/>
                <a:gdLst>
                  <a:gd name="textAreaLeft" fmla="*/ 303480 w 474840"/>
                  <a:gd name="textAreaRight" fmla="*/ 475200 w 474840"/>
                  <a:gd name="textAreaTop" fmla="*/ 61920 h 2386080"/>
                  <a:gd name="textAreaBottom" fmla="*/ 2324160 h 238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6"/>
              <p:cNvSpPr/>
              <p:nvPr/>
            </p:nvSpPr>
            <p:spPr>
              <a:xfrm>
                <a:off x="4643280" y="1700280"/>
                <a:ext cx="8272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Phase 2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0" name="AutoShape 17"/>
          <p:cNvSpPr/>
          <p:nvPr/>
        </p:nvSpPr>
        <p:spPr>
          <a:xfrm>
            <a:off x="324000" y="981000"/>
            <a:ext cx="2808000" cy="5472360"/>
          </a:xfrm>
          <a:prstGeom prst="wedgeRectCallout">
            <a:avLst>
              <a:gd name="adj1" fmla="val 89569"/>
              <a:gd name="adj2" fmla="val 19625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</a:rPr>
              <a:t>نشانگر ها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معلولي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ناراحتي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مرگ و مي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عوامل خطر فيزيولوژيكي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ابعاد و وسعت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برو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شيو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شد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طول عم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ميزان تحر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مدت يا دور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پراكندگي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D632-6047-44BF-8166-08C325961E3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3368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4952880" y="765000"/>
            <a:ext cx="4497840" cy="3672000"/>
            <a:chOff x="4952880" y="765000"/>
            <a:chExt cx="4497840" cy="3672000"/>
          </a:xfrm>
        </p:grpSpPr>
        <p:sp>
          <p:nvSpPr>
            <p:cNvPr id="104" name="Rectangle 5"/>
            <p:cNvSpPr/>
            <p:nvPr/>
          </p:nvSpPr>
          <p:spPr>
            <a:xfrm>
              <a:off x="6300720" y="3427560"/>
              <a:ext cx="1143000" cy="8650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مشكل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بهداشتي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4952880" y="1916280"/>
              <a:ext cx="4024440" cy="360360"/>
            </a:xfrm>
            <a:prstGeom prst="leftArrow">
              <a:avLst>
                <a:gd name="adj1" fmla="val 50000"/>
                <a:gd name="adj2" fmla="val 279196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LANNING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7885080" y="3370320"/>
              <a:ext cx="1143000" cy="1066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800" spc="-1" strike="noStrike">
                  <a:solidFill>
                    <a:srgbClr val="ffffff"/>
                  </a:solidFill>
                  <a:latin typeface="Arial"/>
                </a:rPr>
                <a:t>كيفيت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800" spc="-1" strike="noStrike">
                  <a:solidFill>
                    <a:srgbClr val="ffffff"/>
                  </a:solidFill>
                  <a:latin typeface="Arial"/>
                </a:rPr>
                <a:t> زندگي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7451640" y="3860640"/>
              <a:ext cx="43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 rot="5400000">
              <a:off x="8260920" y="747360"/>
              <a:ext cx="289080" cy="14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8160 h 1476360"/>
                <a:gd name="textAreaBottom" fmla="*/ 143820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 rot="5400000">
              <a:off x="6678360" y="747360"/>
              <a:ext cx="289080" cy="1476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8520 h 1476720"/>
                <a:gd name="textAreaBottom" fmla="*/ 1438200 h 14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8028000" y="1557360"/>
              <a:ext cx="826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1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6443640" y="1557360"/>
              <a:ext cx="827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2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7340760" y="907920"/>
              <a:ext cx="210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ffffff"/>
                  </a:solidFill>
                  <a:latin typeface="Arial"/>
                  <a:cs typeface="Koodak"/>
                </a:rPr>
                <a:t>تشخيص اجتماعي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5694480" y="765000"/>
              <a:ext cx="219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Times New Roman"/>
                  <a:cs typeface="Koodak"/>
                </a:rPr>
                <a:t>تشخي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Times New Roman"/>
                  <a:ea typeface="Koodak"/>
                </a:rPr>
                <a:t> </a:t>
              </a:r>
              <a:r>
                <a:rPr b="1" lang="fa-IR" sz="2000" spc="-1" strike="noStrike">
                  <a:solidFill>
                    <a:srgbClr val="ffffff"/>
                  </a:solidFill>
                  <a:latin typeface="Times New Roman"/>
                  <a:cs typeface="Koodak"/>
                </a:rPr>
                <a:t>اپيدميولوژي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3924360" y="711360"/>
            <a:ext cx="3960720" cy="4446360"/>
            <a:chOff x="3924360" y="711360"/>
            <a:chExt cx="3960720" cy="4446360"/>
          </a:xfrm>
        </p:grpSpPr>
        <p:sp>
          <p:nvSpPr>
            <p:cNvPr id="115" name="Rectangle 16"/>
            <p:cNvSpPr/>
            <p:nvPr/>
          </p:nvSpPr>
          <p:spPr>
            <a:xfrm>
              <a:off x="4356000" y="2565360"/>
              <a:ext cx="1440000" cy="9367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رفتار و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سبك زندگي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V="1">
              <a:off x="5867280" y="4220640"/>
              <a:ext cx="433440" cy="360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4427640" y="4581360"/>
              <a:ext cx="1368360" cy="57636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محيط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Line 19"/>
            <p:cNvSpPr/>
            <p:nvPr/>
          </p:nvSpPr>
          <p:spPr>
            <a:xfrm>
              <a:off x="5867280" y="3357720"/>
              <a:ext cx="357480" cy="14256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5003640" y="3573360"/>
              <a:ext cx="0" cy="10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AutoShape 21"/>
            <p:cNvSpPr/>
            <p:nvPr/>
          </p:nvSpPr>
          <p:spPr>
            <a:xfrm rot="5400000">
              <a:off x="4949280" y="747360"/>
              <a:ext cx="289080" cy="14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8160 h 1476360"/>
                <a:gd name="textAreaBottom" fmla="*/ 143820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22"/>
            <p:cNvSpPr/>
            <p:nvPr/>
          </p:nvSpPr>
          <p:spPr>
            <a:xfrm>
              <a:off x="4716360" y="1557360"/>
              <a:ext cx="827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3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 flipV="1">
              <a:off x="5796000" y="4292640"/>
              <a:ext cx="2089080" cy="79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5867280" y="2637000"/>
              <a:ext cx="1946520" cy="93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3924360" y="711360"/>
              <a:ext cx="2190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Times New Roman"/>
                  <a:cs typeface="Koodak"/>
                </a:rPr>
                <a:t>تشخيص رفتاري و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Times New Roman"/>
                  <a:cs typeface="Koodak"/>
                </a:rPr>
                <a:t>محيطي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5" name="AutoShape 26"/>
          <p:cNvSpPr/>
          <p:nvPr/>
        </p:nvSpPr>
        <p:spPr>
          <a:xfrm>
            <a:off x="0" y="333360"/>
            <a:ext cx="3564000" cy="6120000"/>
          </a:xfrm>
          <a:prstGeom prst="wedgeRectCallout">
            <a:avLst>
              <a:gd name="adj1" fmla="val 73162"/>
              <a:gd name="adj2" fmla="val -7768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نشان گر هاي رفتاري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خود مراقبت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الگوهاي مصرف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افدام پيشگيري كنند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عوامل خطر فيزيولوژيك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سازگار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رفتار هاي پيشگيري كننده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ترك سيگار و استعمال دخانيات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رفتار هاي مربوط به درماني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 رعايت توصيه هاي پزشك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مصرف دارو برابر توصيه پزش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ابعاد و اندازه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تكرا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پافشار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تكرا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كيفيت و دامنه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8055-3644-4995-A136-9E0A70AA7F6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3368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3924360" y="692280"/>
            <a:ext cx="5526360" cy="4446360"/>
            <a:chOff x="3924360" y="692280"/>
            <a:chExt cx="5526360" cy="4446360"/>
          </a:xfrm>
        </p:grpSpPr>
        <p:sp>
          <p:nvSpPr>
            <p:cNvPr id="129" name="Rectangle 5"/>
            <p:cNvSpPr/>
            <p:nvPr/>
          </p:nvSpPr>
          <p:spPr>
            <a:xfrm>
              <a:off x="4356000" y="2546280"/>
              <a:ext cx="1440000" cy="9367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رفتار و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سبك زندگي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6300720" y="3408480"/>
              <a:ext cx="1143000" cy="8650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مشكل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بهداشتي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V="1">
              <a:off x="5867280" y="4201560"/>
              <a:ext cx="433440" cy="360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4952880" y="1897200"/>
              <a:ext cx="4024440" cy="360360"/>
            </a:xfrm>
            <a:prstGeom prst="leftArrow">
              <a:avLst>
                <a:gd name="adj1" fmla="val 50000"/>
                <a:gd name="adj2" fmla="val 279196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LANNING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7885080" y="3351240"/>
              <a:ext cx="1143000" cy="1066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800" spc="-1" strike="noStrike">
                  <a:solidFill>
                    <a:srgbClr val="ffffff"/>
                  </a:solidFill>
                  <a:latin typeface="Arial"/>
                </a:rPr>
                <a:t>كيفيت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800" spc="-1" strike="noStrike">
                  <a:solidFill>
                    <a:srgbClr val="ffffff"/>
                  </a:solidFill>
                  <a:latin typeface="Arial"/>
                </a:rPr>
                <a:t> زندگي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>
              <a:off x="7451640" y="3841560"/>
              <a:ext cx="4320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Rectangle 11"/>
            <p:cNvSpPr/>
            <p:nvPr/>
          </p:nvSpPr>
          <p:spPr>
            <a:xfrm>
              <a:off x="4427640" y="4562280"/>
              <a:ext cx="1368360" cy="57636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محيط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5867280" y="3338640"/>
              <a:ext cx="357480" cy="14256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5003640" y="3554280"/>
              <a:ext cx="0" cy="10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 flipV="1">
              <a:off x="5796000" y="4273560"/>
              <a:ext cx="2089080" cy="79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>
              <a:off x="5867280" y="2617920"/>
              <a:ext cx="1946520" cy="93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 rot="5400000">
              <a:off x="8260920" y="728280"/>
              <a:ext cx="289080" cy="14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8160 h 1476360"/>
                <a:gd name="textAreaBottom" fmla="*/ 143820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AutoShape 17"/>
            <p:cNvSpPr/>
            <p:nvPr/>
          </p:nvSpPr>
          <p:spPr>
            <a:xfrm rot="5400000">
              <a:off x="6678360" y="728280"/>
              <a:ext cx="289080" cy="1476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8520 h 1476720"/>
                <a:gd name="textAreaBottom" fmla="*/ 1438200 h 14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 rot="5400000">
              <a:off x="4949280" y="728280"/>
              <a:ext cx="289080" cy="14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8160 h 1476360"/>
                <a:gd name="textAreaBottom" fmla="*/ 143820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8028000" y="1538280"/>
              <a:ext cx="826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1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20"/>
            <p:cNvSpPr/>
            <p:nvPr/>
          </p:nvSpPr>
          <p:spPr>
            <a:xfrm>
              <a:off x="6443640" y="1538280"/>
              <a:ext cx="827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2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4716360" y="1538280"/>
              <a:ext cx="827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3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Text Box 22"/>
            <p:cNvSpPr/>
            <p:nvPr/>
          </p:nvSpPr>
          <p:spPr>
            <a:xfrm>
              <a:off x="7340760" y="888840"/>
              <a:ext cx="210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ffffff"/>
                  </a:solidFill>
                  <a:latin typeface="Arial"/>
                  <a:cs typeface="Koodak"/>
                </a:rPr>
                <a:t>تشخيص اجتماعي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23"/>
            <p:cNvSpPr/>
            <p:nvPr/>
          </p:nvSpPr>
          <p:spPr>
            <a:xfrm>
              <a:off x="5694480" y="745920"/>
              <a:ext cx="219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Times New Roman"/>
                  <a:cs typeface="Koodak"/>
                </a:rPr>
                <a:t>تشخي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Times New Roman"/>
                  <a:ea typeface="Koodak"/>
                </a:rPr>
                <a:t> </a:t>
              </a:r>
              <a:r>
                <a:rPr b="1" lang="fa-IR" sz="2000" spc="-1" strike="noStrike">
                  <a:solidFill>
                    <a:srgbClr val="ffffff"/>
                  </a:solidFill>
                  <a:latin typeface="Times New Roman"/>
                  <a:cs typeface="Koodak"/>
                </a:rPr>
                <a:t>اپيدميولوژي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24"/>
            <p:cNvSpPr/>
            <p:nvPr/>
          </p:nvSpPr>
          <p:spPr>
            <a:xfrm>
              <a:off x="3924360" y="692280"/>
              <a:ext cx="2190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Times New Roman"/>
                  <a:cs typeface="Koodak"/>
                </a:rPr>
                <a:t>تشخيص رفتاري و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Times New Roman"/>
                  <a:cs typeface="Koodak"/>
                </a:rPr>
                <a:t>محيطي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AutoShape 25"/>
          <p:cNvSpPr/>
          <p:nvPr/>
        </p:nvSpPr>
        <p:spPr>
          <a:xfrm>
            <a:off x="179280" y="981000"/>
            <a:ext cx="3024360" cy="3888000"/>
          </a:xfrm>
          <a:prstGeom prst="wedgeRectCallout">
            <a:avLst>
              <a:gd name="adj1" fmla="val 90421"/>
              <a:gd name="adj2" fmla="val 48981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</a:rPr>
              <a:t>نشانگر هاي محيطي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فيزيك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اقتصاد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خدمات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اجتماع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</a:rPr>
              <a:t>ابعاد و اندازه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دسترس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تساو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قابل تحمل بود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6122-19B2-4252-917C-0ED3B3D9B09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3368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4108320" y="692280"/>
            <a:ext cx="5336280" cy="4446360"/>
            <a:chOff x="4108320" y="692280"/>
            <a:chExt cx="5336280" cy="4446360"/>
          </a:xfrm>
        </p:grpSpPr>
        <p:sp>
          <p:nvSpPr>
            <p:cNvPr id="153" name="Line 5"/>
            <p:cNvSpPr/>
            <p:nvPr/>
          </p:nvSpPr>
          <p:spPr>
            <a:xfrm>
              <a:off x="5970960" y="3338640"/>
              <a:ext cx="342720" cy="142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4" name="Group 6"/>
            <p:cNvGrpSpPr/>
            <p:nvPr/>
          </p:nvGrpSpPr>
          <p:grpSpPr>
            <a:xfrm>
              <a:off x="4108320" y="692280"/>
              <a:ext cx="5336280" cy="4446360"/>
              <a:chOff x="4108320" y="692280"/>
              <a:chExt cx="5336280" cy="4446360"/>
            </a:xfrm>
          </p:grpSpPr>
          <p:sp>
            <p:nvSpPr>
              <p:cNvPr id="155" name="Rectangle 7"/>
              <p:cNvSpPr/>
              <p:nvPr/>
            </p:nvSpPr>
            <p:spPr>
              <a:xfrm>
                <a:off x="4521960" y="2546280"/>
                <a:ext cx="1380600" cy="9367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رفتار و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سبك زندگي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6386400" y="3408480"/>
                <a:ext cx="1095840" cy="865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مشكل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 بهداشتي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Line 9"/>
              <p:cNvSpPr/>
              <p:nvPr/>
            </p:nvSpPr>
            <p:spPr>
              <a:xfrm flipV="1">
                <a:off x="5970960" y="4201560"/>
                <a:ext cx="415440" cy="3603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AutoShape 10"/>
              <p:cNvSpPr/>
              <p:nvPr/>
            </p:nvSpPr>
            <p:spPr>
              <a:xfrm>
                <a:off x="5094360" y="1897200"/>
                <a:ext cx="3858480" cy="360360"/>
              </a:xfrm>
              <a:prstGeom prst="leftArrow">
                <a:avLst>
                  <a:gd name="adj1" fmla="val 50000"/>
                  <a:gd name="adj2" fmla="val 267682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LANNING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Rectangle 11"/>
              <p:cNvSpPr/>
              <p:nvPr/>
            </p:nvSpPr>
            <p:spPr>
              <a:xfrm>
                <a:off x="7905600" y="3351240"/>
                <a:ext cx="1095840" cy="10666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800" spc="-1" strike="noStrike">
                    <a:solidFill>
                      <a:srgbClr val="ffffff"/>
                    </a:solidFill>
                    <a:latin typeface="Arial"/>
                  </a:rPr>
                  <a:t>كيفيت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800" spc="-1" strike="noStrike">
                    <a:solidFill>
                      <a:srgbClr val="ffffff"/>
                    </a:solidFill>
                    <a:latin typeface="Arial"/>
                  </a:rPr>
                  <a:t> زندگي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90160" y="3841560"/>
                <a:ext cx="414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Rectangle 13"/>
              <p:cNvSpPr/>
              <p:nvPr/>
            </p:nvSpPr>
            <p:spPr>
              <a:xfrm>
                <a:off x="4590720" y="4562280"/>
                <a:ext cx="1311840" cy="57636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3200" spc="-1" strike="noStrike">
                    <a:solidFill>
                      <a:srgbClr val="ffffff"/>
                    </a:solidFill>
                    <a:latin typeface="Arial"/>
                  </a:rPr>
                  <a:t>محيط</a:t>
                </a: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Line 14"/>
              <p:cNvSpPr/>
              <p:nvPr/>
            </p:nvSpPr>
            <p:spPr>
              <a:xfrm>
                <a:off x="5142960" y="3554280"/>
                <a:ext cx="0" cy="1008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Line 15"/>
              <p:cNvSpPr/>
              <p:nvPr/>
            </p:nvSpPr>
            <p:spPr>
              <a:xfrm flipV="1">
                <a:off x="5902560" y="4273560"/>
                <a:ext cx="2002680" cy="792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Line 16"/>
              <p:cNvSpPr/>
              <p:nvPr/>
            </p:nvSpPr>
            <p:spPr>
              <a:xfrm>
                <a:off x="5970960" y="2617920"/>
                <a:ext cx="1866240" cy="936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AutoShape 17"/>
              <p:cNvSpPr/>
              <p:nvPr/>
            </p:nvSpPr>
            <p:spPr>
              <a:xfrm rot="5400000">
                <a:off x="8259840" y="758880"/>
                <a:ext cx="289080" cy="141516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36720 h 1415160"/>
                  <a:gd name="textAreaBottom" fmla="*/ 1378440 h 14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AutoShape 18"/>
              <p:cNvSpPr/>
              <p:nvPr/>
            </p:nvSpPr>
            <p:spPr>
              <a:xfrm rot="5400000">
                <a:off x="6742440" y="758880"/>
                <a:ext cx="289080" cy="141552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36720 h 1415520"/>
                  <a:gd name="textAreaBottom" fmla="*/ 1378800 h 141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AutoShape 19"/>
              <p:cNvSpPr/>
              <p:nvPr/>
            </p:nvSpPr>
            <p:spPr>
              <a:xfrm rot="5400000">
                <a:off x="5084640" y="758880"/>
                <a:ext cx="289080" cy="141516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36720 h 1415160"/>
                  <a:gd name="textAreaBottom" fmla="*/ 1378440 h 14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20"/>
              <p:cNvSpPr/>
              <p:nvPr/>
            </p:nvSpPr>
            <p:spPr>
              <a:xfrm>
                <a:off x="8042760" y="1538280"/>
                <a:ext cx="79272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Times New Roman"/>
                    <a:ea typeface="Times New Roman"/>
                  </a:rPr>
                  <a:t>Phase 1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21"/>
              <p:cNvSpPr/>
              <p:nvPr/>
            </p:nvSpPr>
            <p:spPr>
              <a:xfrm>
                <a:off x="6523560" y="1538280"/>
                <a:ext cx="79308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Times New Roman"/>
                    <a:ea typeface="Times New Roman"/>
                  </a:rPr>
                  <a:t>Phase 2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Rectangle 22"/>
              <p:cNvSpPr/>
              <p:nvPr/>
            </p:nvSpPr>
            <p:spPr>
              <a:xfrm>
                <a:off x="4867560" y="1538280"/>
                <a:ext cx="79308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Times New Roman"/>
                    <a:ea typeface="Times New Roman"/>
                  </a:rPr>
                  <a:t>Phase 3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Text Box 23"/>
              <p:cNvSpPr/>
              <p:nvPr/>
            </p:nvSpPr>
            <p:spPr>
              <a:xfrm>
                <a:off x="7349760" y="83484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1800" spc="-1" strike="noStrike">
                    <a:solidFill>
                      <a:srgbClr val="ffffff"/>
                    </a:solidFill>
                    <a:latin typeface="Arial"/>
                  </a:rPr>
                  <a:t>تشخيص اجتماعي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Text Box 24"/>
              <p:cNvSpPr/>
              <p:nvPr/>
            </p:nvSpPr>
            <p:spPr>
              <a:xfrm>
                <a:off x="5805360" y="745920"/>
                <a:ext cx="2100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تشخيص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اپيدميولوژي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Text Box 25"/>
              <p:cNvSpPr/>
              <p:nvPr/>
            </p:nvSpPr>
            <p:spPr>
              <a:xfrm>
                <a:off x="4108320" y="692280"/>
                <a:ext cx="2100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تشخيص رفتاري و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محيطي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74" name="Group 26"/>
          <p:cNvGrpSpPr/>
          <p:nvPr/>
        </p:nvGrpSpPr>
        <p:grpSpPr>
          <a:xfrm>
            <a:off x="1908000" y="620640"/>
            <a:ext cx="3022560" cy="4968720"/>
            <a:chOff x="1908000" y="620640"/>
            <a:chExt cx="3022560" cy="4968720"/>
          </a:xfrm>
        </p:grpSpPr>
        <p:sp>
          <p:nvSpPr>
            <p:cNvPr id="175" name="Rectangle 27"/>
            <p:cNvSpPr/>
            <p:nvPr/>
          </p:nvSpPr>
          <p:spPr>
            <a:xfrm>
              <a:off x="2159640" y="1771560"/>
              <a:ext cx="1976760" cy="10810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ffffff"/>
                  </a:solidFill>
                  <a:latin typeface="Arial"/>
                </a:rPr>
                <a:t>عوامل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ffffff"/>
                  </a:solidFill>
                  <a:latin typeface="Arial"/>
                </a:rPr>
                <a:t>مساعد كننده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2074320" y="3141720"/>
              <a:ext cx="2059920" cy="100800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ffffff"/>
                  </a:solidFill>
                  <a:latin typeface="Arial"/>
                </a:rPr>
                <a:t>عوامل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ffffff"/>
                  </a:solidFill>
                  <a:latin typeface="Arial"/>
                </a:rPr>
                <a:t> تقويت كننده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7" name="Group 29"/>
            <p:cNvGrpSpPr/>
            <p:nvPr/>
          </p:nvGrpSpPr>
          <p:grpSpPr>
            <a:xfrm>
              <a:off x="2159640" y="4419720"/>
              <a:ext cx="2013480" cy="1169640"/>
              <a:chOff x="2159640" y="4419720"/>
              <a:chExt cx="2013480" cy="1169640"/>
            </a:xfrm>
          </p:grpSpPr>
          <p:sp>
            <p:nvSpPr>
              <p:cNvPr id="178" name="Rectangle 30"/>
              <p:cNvSpPr/>
              <p:nvPr/>
            </p:nvSpPr>
            <p:spPr>
              <a:xfrm>
                <a:off x="2159640" y="4419720"/>
                <a:ext cx="2013480" cy="116964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Text Box 31"/>
              <p:cNvSpPr/>
              <p:nvPr/>
            </p:nvSpPr>
            <p:spPr>
              <a:xfrm>
                <a:off x="2159640" y="4509720"/>
                <a:ext cx="1838160" cy="10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400" spc="-1" strike="noStrike">
                    <a:solidFill>
                      <a:srgbClr val="ffffff"/>
                    </a:solidFill>
                    <a:latin typeface="Arial"/>
                  </a:rPr>
                  <a:t>عوامل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400" spc="-1" strike="noStrike">
                    <a:solidFill>
                      <a:srgbClr val="ffffff"/>
                    </a:solidFill>
                    <a:latin typeface="Arial"/>
                  </a:rPr>
                  <a:t>قادر كننده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ts val="1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0" name="Line 32"/>
            <p:cNvSpPr/>
            <p:nvPr/>
          </p:nvSpPr>
          <p:spPr>
            <a:xfrm>
              <a:off x="4173480" y="2138400"/>
              <a:ext cx="416160" cy="426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33"/>
            <p:cNvSpPr/>
            <p:nvPr/>
          </p:nvSpPr>
          <p:spPr>
            <a:xfrm>
              <a:off x="4173480" y="3357720"/>
              <a:ext cx="420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 flipV="1">
              <a:off x="4258800" y="3573000"/>
              <a:ext cx="671760" cy="863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35"/>
            <p:cNvSpPr/>
            <p:nvPr/>
          </p:nvSpPr>
          <p:spPr>
            <a:xfrm flipV="1">
              <a:off x="4173480" y="4941720"/>
              <a:ext cx="671760" cy="5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36"/>
            <p:cNvSpPr/>
            <p:nvPr/>
          </p:nvSpPr>
          <p:spPr>
            <a:xfrm flipV="1">
              <a:off x="3083400" y="414972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37"/>
            <p:cNvSpPr/>
            <p:nvPr/>
          </p:nvSpPr>
          <p:spPr>
            <a:xfrm flipV="1">
              <a:off x="3083400" y="285444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AutoShape 38"/>
            <p:cNvSpPr/>
            <p:nvPr/>
          </p:nvSpPr>
          <p:spPr>
            <a:xfrm rot="5400000">
              <a:off x="2979360" y="434520"/>
              <a:ext cx="288720" cy="209880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54720 h 2098800"/>
                <a:gd name="textAreaBottom" fmla="*/ 2044080 h 20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Rectangle 39"/>
            <p:cNvSpPr/>
            <p:nvPr/>
          </p:nvSpPr>
          <p:spPr>
            <a:xfrm>
              <a:off x="2663280" y="1484280"/>
              <a:ext cx="964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4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40"/>
            <p:cNvSpPr/>
            <p:nvPr/>
          </p:nvSpPr>
          <p:spPr>
            <a:xfrm>
              <a:off x="1908000" y="620640"/>
              <a:ext cx="255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تشخي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آموزشي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" name="Group 41"/>
          <p:cNvGrpSpPr/>
          <p:nvPr/>
        </p:nvGrpSpPr>
        <p:grpSpPr>
          <a:xfrm>
            <a:off x="153360" y="2781000"/>
            <a:ext cx="1970640" cy="3051000"/>
            <a:chOff x="153360" y="2781000"/>
            <a:chExt cx="1970640" cy="3051000"/>
          </a:xfrm>
        </p:grpSpPr>
        <p:grpSp>
          <p:nvGrpSpPr>
            <p:cNvPr id="190" name="Diagram 42"/>
            <p:cNvGrpSpPr/>
            <p:nvPr/>
          </p:nvGrpSpPr>
          <p:grpSpPr>
            <a:xfrm>
              <a:off x="153360" y="4087080"/>
              <a:ext cx="1744200" cy="1744920"/>
              <a:chOff x="153360" y="4087080"/>
              <a:chExt cx="1744200" cy="1744920"/>
            </a:xfrm>
          </p:grpSpPr>
          <p:sp>
            <p:nvSpPr>
              <p:cNvPr id="191" name="_s1028"/>
              <p:cNvSpPr/>
              <p:nvPr/>
            </p:nvSpPr>
            <p:spPr>
              <a:xfrm>
                <a:off x="432720" y="4087080"/>
                <a:ext cx="1186200" cy="1186200"/>
              </a:xfrm>
              <a:custGeom>
                <a:avLst/>
                <a:gdLst>
                  <a:gd name="textAreaLeft" fmla="*/ 0 w 1186200"/>
                  <a:gd name="textAreaRight" fmla="*/ 1186560 w 1186200"/>
                  <a:gd name="textAreaTop" fmla="*/ 0 h 1186200"/>
                  <a:gd name="textAreaBottom" fmla="*/ 1186560 h 11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_s1029"/>
              <p:cNvSpPr/>
              <p:nvPr/>
            </p:nvSpPr>
            <p:spPr>
              <a:xfrm rot="5400000">
                <a:off x="711000" y="4366440"/>
                <a:ext cx="1186200" cy="1186200"/>
              </a:xfrm>
              <a:custGeom>
                <a:avLst/>
                <a:gdLst>
                  <a:gd name="textAreaLeft" fmla="*/ 0 w 1186200"/>
                  <a:gd name="textAreaRight" fmla="*/ 1186560 w 1186200"/>
                  <a:gd name="textAreaTop" fmla="*/ 0 h 1186200"/>
                  <a:gd name="textAreaBottom" fmla="*/ 1186560 h 11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_s1030"/>
              <p:cNvSpPr/>
              <p:nvPr/>
            </p:nvSpPr>
            <p:spPr>
              <a:xfrm rot="10800000">
                <a:off x="432360" y="4645440"/>
                <a:ext cx="1186200" cy="1186560"/>
              </a:xfrm>
              <a:custGeom>
                <a:avLst/>
                <a:gdLst>
                  <a:gd name="textAreaLeft" fmla="*/ 0 w 1186200"/>
                  <a:gd name="textAreaRight" fmla="*/ 1186560 w 1186200"/>
                  <a:gd name="textAreaTop" fmla="*/ 0 h 1186560"/>
                  <a:gd name="textAreaBottom" fmla="*/ 1186920 h 11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_s1031"/>
              <p:cNvSpPr/>
              <p:nvPr/>
            </p:nvSpPr>
            <p:spPr>
              <a:xfrm rot="16200000">
                <a:off x="153360" y="4366080"/>
                <a:ext cx="1186200" cy="1186200"/>
              </a:xfrm>
              <a:custGeom>
                <a:avLst/>
                <a:gdLst>
                  <a:gd name="textAreaLeft" fmla="*/ 0 w 1186200"/>
                  <a:gd name="textAreaRight" fmla="*/ 1186560 w 1186200"/>
                  <a:gd name="textAreaTop" fmla="*/ 0 h 1186200"/>
                  <a:gd name="textAreaBottom" fmla="*/ 1186560 h 11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_s1032"/>
              <p:cNvSpPr/>
              <p:nvPr/>
            </p:nvSpPr>
            <p:spPr>
              <a:xfrm>
                <a:off x="262440" y="4196880"/>
                <a:ext cx="44712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1400" spc="-1" strike="noStrike">
                    <a:solidFill>
                      <a:srgbClr val="ffffff"/>
                    </a:solidFill>
                    <a:latin typeface="Tahoma"/>
                    <a:cs typeface="Arial"/>
                  </a:rPr>
                  <a:t>نگرش ها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_s1033"/>
              <p:cNvSpPr/>
              <p:nvPr/>
            </p:nvSpPr>
            <p:spPr>
              <a:xfrm>
                <a:off x="1341360" y="4196160"/>
                <a:ext cx="44712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1400" spc="-1" strike="noStrike">
                    <a:solidFill>
                      <a:srgbClr val="ffffff"/>
                    </a:solidFill>
                    <a:latin typeface="Tahoma"/>
                    <a:cs typeface="Arial"/>
                  </a:rPr>
                  <a:t>تجربه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_s1034"/>
              <p:cNvSpPr/>
              <p:nvPr/>
            </p:nvSpPr>
            <p:spPr>
              <a:xfrm>
                <a:off x="1342080" y="5275080"/>
                <a:ext cx="4467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1400" spc="-1" strike="noStrike">
                    <a:solidFill>
                      <a:srgbClr val="ffffff"/>
                    </a:solidFill>
                    <a:latin typeface="Tahoma"/>
                    <a:cs typeface="Arial"/>
                  </a:rPr>
                  <a:t>باورها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_s1035"/>
              <p:cNvSpPr/>
              <p:nvPr/>
            </p:nvSpPr>
            <p:spPr>
              <a:xfrm>
                <a:off x="263160" y="5275800"/>
                <a:ext cx="4467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1400" spc="-1" strike="noStrike">
                    <a:solidFill>
                      <a:srgbClr val="ffffff"/>
                    </a:solidFill>
                    <a:latin typeface="Tahoma"/>
                    <a:cs typeface="Arial"/>
                  </a:rPr>
                  <a:t>ارزشها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99" name="Line 52"/>
            <p:cNvSpPr/>
            <p:nvPr/>
          </p:nvSpPr>
          <p:spPr>
            <a:xfrm flipV="1">
              <a:off x="1403280" y="2781000"/>
              <a:ext cx="720720" cy="11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0" name="AutoShape 53"/>
          <p:cNvSpPr/>
          <p:nvPr/>
        </p:nvSpPr>
        <p:spPr>
          <a:xfrm>
            <a:off x="179280" y="1628640"/>
            <a:ext cx="1582920" cy="2016360"/>
          </a:xfrm>
          <a:prstGeom prst="wedgeRectCallout">
            <a:avLst>
              <a:gd name="adj1" fmla="val 75476"/>
              <a:gd name="adj2" fmla="val -63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آگاه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نگرش ه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باور ه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ارزشه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اطمينا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3C88-488E-4E19-8A11-F59C8013BAC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3368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1901880" y="620640"/>
            <a:ext cx="7535880" cy="4968720"/>
            <a:chOff x="1901880" y="620640"/>
            <a:chExt cx="7535880" cy="4968720"/>
          </a:xfrm>
        </p:grpSpPr>
        <p:sp>
          <p:nvSpPr>
            <p:cNvPr id="204" name="Rectangle 5"/>
            <p:cNvSpPr/>
            <p:nvPr/>
          </p:nvSpPr>
          <p:spPr>
            <a:xfrm>
              <a:off x="4349520" y="2565360"/>
              <a:ext cx="1439640" cy="9367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رفتار و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سبك زندگي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6294240" y="3427560"/>
              <a:ext cx="1142640" cy="8650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مشكل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بهداشتي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 flipV="1">
              <a:off x="5860800" y="4220640"/>
              <a:ext cx="433080" cy="360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AutoShape 8"/>
            <p:cNvSpPr/>
            <p:nvPr/>
          </p:nvSpPr>
          <p:spPr>
            <a:xfrm>
              <a:off x="4946400" y="1916280"/>
              <a:ext cx="4024080" cy="360360"/>
            </a:xfrm>
            <a:prstGeom prst="leftArrow">
              <a:avLst>
                <a:gd name="adj1" fmla="val 50000"/>
                <a:gd name="adj2" fmla="val 279171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LANNING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7878600" y="3370320"/>
              <a:ext cx="1142640" cy="1066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800" spc="-1" strike="noStrike">
                  <a:solidFill>
                    <a:srgbClr val="ffffff"/>
                  </a:solidFill>
                  <a:latin typeface="Arial"/>
                </a:rPr>
                <a:t>كيفيت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800" spc="-1" strike="noStrike">
                  <a:solidFill>
                    <a:srgbClr val="ffffff"/>
                  </a:solidFill>
                  <a:latin typeface="Arial"/>
                </a:rPr>
                <a:t> زندگي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7445160" y="3860640"/>
              <a:ext cx="431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11"/>
            <p:cNvSpPr/>
            <p:nvPr/>
          </p:nvSpPr>
          <p:spPr>
            <a:xfrm>
              <a:off x="4421160" y="4581360"/>
              <a:ext cx="1368000" cy="57636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محيط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5860800" y="3357720"/>
              <a:ext cx="357120" cy="142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997160" y="3573360"/>
              <a:ext cx="0" cy="10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 flipV="1">
              <a:off x="5789520" y="4292640"/>
              <a:ext cx="2088720" cy="79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5860800" y="2637000"/>
              <a:ext cx="1946160" cy="93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AutoShape 16"/>
            <p:cNvSpPr/>
            <p:nvPr/>
          </p:nvSpPr>
          <p:spPr>
            <a:xfrm rot="5400000">
              <a:off x="8254440" y="747720"/>
              <a:ext cx="289080" cy="1476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8160 h 1476000"/>
                <a:gd name="textAreaBottom" fmla="*/ 1437840 h 14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AutoShape 17"/>
            <p:cNvSpPr/>
            <p:nvPr/>
          </p:nvSpPr>
          <p:spPr>
            <a:xfrm rot="5400000">
              <a:off x="6671520" y="747360"/>
              <a:ext cx="289080" cy="14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8160 h 1476360"/>
                <a:gd name="textAreaBottom" fmla="*/ 143820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AutoShape 18"/>
            <p:cNvSpPr/>
            <p:nvPr/>
          </p:nvSpPr>
          <p:spPr>
            <a:xfrm rot="5400000">
              <a:off x="4942800" y="747720"/>
              <a:ext cx="289080" cy="1476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8160 h 1476000"/>
                <a:gd name="textAreaBottom" fmla="*/ 1437840 h 14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19"/>
            <p:cNvSpPr/>
            <p:nvPr/>
          </p:nvSpPr>
          <p:spPr>
            <a:xfrm>
              <a:off x="8021520" y="1557360"/>
              <a:ext cx="826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1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20"/>
            <p:cNvSpPr/>
            <p:nvPr/>
          </p:nvSpPr>
          <p:spPr>
            <a:xfrm>
              <a:off x="6437160" y="1557360"/>
              <a:ext cx="826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2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21"/>
            <p:cNvSpPr/>
            <p:nvPr/>
          </p:nvSpPr>
          <p:spPr>
            <a:xfrm>
              <a:off x="4709880" y="1557360"/>
              <a:ext cx="8269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3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7342920" y="853920"/>
              <a:ext cx="209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ffffff"/>
                  </a:solidFill>
                  <a:latin typeface="Arial"/>
                </a:rPr>
                <a:t>تشخيص اجتماعي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Text Box 23"/>
            <p:cNvSpPr/>
            <p:nvPr/>
          </p:nvSpPr>
          <p:spPr>
            <a:xfrm>
              <a:off x="5688000" y="765000"/>
              <a:ext cx="219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تشخي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اپيدميولوژي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3917880" y="711360"/>
              <a:ext cx="2190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تشخيص رفتاري و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محيطي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25"/>
            <p:cNvSpPr/>
            <p:nvPr/>
          </p:nvSpPr>
          <p:spPr>
            <a:xfrm>
              <a:off x="2117520" y="1771560"/>
              <a:ext cx="1695240" cy="10810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عوامل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مساعد كننده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>
              <a:off x="2044440" y="3141720"/>
              <a:ext cx="1766520" cy="100800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عوامل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تقويت كننده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26" name="Group 27"/>
            <p:cNvGrpSpPr/>
            <p:nvPr/>
          </p:nvGrpSpPr>
          <p:grpSpPr>
            <a:xfrm>
              <a:off x="2117520" y="4419720"/>
              <a:ext cx="1726920" cy="1169640"/>
              <a:chOff x="2117520" y="4419720"/>
              <a:chExt cx="1726920" cy="1169640"/>
            </a:xfrm>
          </p:grpSpPr>
          <p:sp>
            <p:nvSpPr>
              <p:cNvPr id="227" name="Rectangle 28"/>
              <p:cNvSpPr/>
              <p:nvPr/>
            </p:nvSpPr>
            <p:spPr>
              <a:xfrm>
                <a:off x="2117520" y="4419720"/>
                <a:ext cx="1726920" cy="116964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Text Box 29"/>
              <p:cNvSpPr/>
              <p:nvPr/>
            </p:nvSpPr>
            <p:spPr>
              <a:xfrm>
                <a:off x="2117520" y="4509720"/>
                <a:ext cx="1576440" cy="10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عوامل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قادر كننده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ts val="1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9" name="Line 30"/>
            <p:cNvSpPr/>
            <p:nvPr/>
          </p:nvSpPr>
          <p:spPr>
            <a:xfrm>
              <a:off x="3844800" y="2138400"/>
              <a:ext cx="356760" cy="426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3844800" y="3357720"/>
              <a:ext cx="360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V="1">
              <a:off x="3917880" y="3573000"/>
              <a:ext cx="576000" cy="863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 flipV="1">
              <a:off x="3844800" y="4941720"/>
              <a:ext cx="576000" cy="5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 flipV="1">
              <a:off x="2909880" y="4149720"/>
              <a:ext cx="0" cy="28728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Line 35"/>
            <p:cNvSpPr/>
            <p:nvPr/>
          </p:nvSpPr>
          <p:spPr>
            <a:xfrm flipV="1">
              <a:off x="2836800" y="2781360"/>
              <a:ext cx="0" cy="28728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AutoShape 36"/>
            <p:cNvSpPr/>
            <p:nvPr/>
          </p:nvSpPr>
          <p:spPr>
            <a:xfrm rot="5400000">
              <a:off x="2800080" y="583920"/>
              <a:ext cx="288720" cy="180000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0"/>
                  </a:lnTo>
                  <a:cubicBezTo>
                    <a:pt x="10800" y="10060"/>
                    <a:pt x="5400" y="10960"/>
                    <a:pt x="0" y="10960"/>
                  </a:cubicBezTo>
                  <a:cubicBezTo>
                    <a:pt x="5400" y="10960"/>
                    <a:pt x="10800" y="11860"/>
                    <a:pt x="10800" y="1276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2549520" y="1484280"/>
              <a:ext cx="826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4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1901880" y="620640"/>
              <a:ext cx="219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تشخي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آموزشي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AutoShape 39"/>
          <p:cNvSpPr/>
          <p:nvPr/>
        </p:nvSpPr>
        <p:spPr>
          <a:xfrm>
            <a:off x="0" y="4508640"/>
            <a:ext cx="2197080" cy="2349360"/>
          </a:xfrm>
          <a:prstGeom prst="wedgeRectCallout">
            <a:avLst>
              <a:gd name="adj1" fmla="val 42990"/>
              <a:gd name="adj2" fmla="val -76958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</a:rPr>
              <a:t>خانواد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</a:rPr>
              <a:t>دوستا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</a:rPr>
              <a:t>مدر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</a:rPr>
              <a:t>كاركنان بهداشتي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</a:rPr>
              <a:t>تصميم گيران يا مديرا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</a:rPr>
              <a:t>رهبران جامع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9" name="Group 40"/>
          <p:cNvGrpSpPr/>
          <p:nvPr/>
        </p:nvGrpSpPr>
        <p:grpSpPr>
          <a:xfrm>
            <a:off x="164160" y="1158840"/>
            <a:ext cx="1867320" cy="2486160"/>
            <a:chOff x="164160" y="1158840"/>
            <a:chExt cx="1867320" cy="2486160"/>
          </a:xfrm>
        </p:grpSpPr>
        <p:grpSp>
          <p:nvGrpSpPr>
            <p:cNvPr id="240" name="Diagram 41"/>
            <p:cNvGrpSpPr/>
            <p:nvPr/>
          </p:nvGrpSpPr>
          <p:grpSpPr>
            <a:xfrm>
              <a:off x="164160" y="1158840"/>
              <a:ext cx="1867320" cy="2021400"/>
              <a:chOff x="164160" y="1158840"/>
              <a:chExt cx="1867320" cy="2021400"/>
            </a:xfrm>
          </p:grpSpPr>
          <p:sp>
            <p:nvSpPr>
              <p:cNvPr id="241" name="_s2052"/>
              <p:cNvSpPr/>
              <p:nvPr/>
            </p:nvSpPr>
            <p:spPr>
              <a:xfrm>
                <a:off x="463320" y="1158840"/>
                <a:ext cx="1269720" cy="1374480"/>
              </a:xfrm>
              <a:custGeom>
                <a:avLst/>
                <a:gdLst>
                  <a:gd name="textAreaLeft" fmla="*/ 0 w 1269720"/>
                  <a:gd name="textAreaRight" fmla="*/ 1270080 w 1269720"/>
                  <a:gd name="textAreaTop" fmla="*/ 0 h 1374480"/>
                  <a:gd name="textAreaBottom" fmla="*/ 1374840 h 137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_s2053"/>
              <p:cNvSpPr/>
              <p:nvPr/>
            </p:nvSpPr>
            <p:spPr>
              <a:xfrm rot="5400000">
                <a:off x="709200" y="1534680"/>
                <a:ext cx="1374480" cy="126972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9720"/>
                  <a:gd name="textAreaBottom" fmla="*/ 1270080 h 126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003366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_s2054"/>
              <p:cNvSpPr/>
              <p:nvPr/>
            </p:nvSpPr>
            <p:spPr>
              <a:xfrm rot="10800000">
                <a:off x="462960" y="1805400"/>
                <a:ext cx="1269720" cy="1374840"/>
              </a:xfrm>
              <a:custGeom>
                <a:avLst/>
                <a:gdLst>
                  <a:gd name="textAreaLeft" fmla="*/ 0 w 1269720"/>
                  <a:gd name="textAreaRight" fmla="*/ 1270080 w 126972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_s2055"/>
              <p:cNvSpPr/>
              <p:nvPr/>
            </p:nvSpPr>
            <p:spPr>
              <a:xfrm rot="16200000">
                <a:off x="111600" y="1534680"/>
                <a:ext cx="1374480" cy="126972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9720"/>
                  <a:gd name="textAreaBottom" fmla="*/ 1270080 h 126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_s2056"/>
              <p:cNvSpPr/>
              <p:nvPr/>
            </p:nvSpPr>
            <p:spPr>
              <a:xfrm>
                <a:off x="281160" y="1285920"/>
                <a:ext cx="4784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1800" spc="-1" strike="noStrike">
                    <a:solidFill>
                      <a:srgbClr val="ffffff"/>
                    </a:solidFill>
                    <a:latin typeface="Tahoma"/>
                    <a:cs typeface="Arial"/>
                  </a:rPr>
                  <a:t>سازمان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_s2057"/>
              <p:cNvSpPr/>
              <p:nvPr/>
            </p:nvSpPr>
            <p:spPr>
              <a:xfrm>
                <a:off x="1435680" y="1285200"/>
                <a:ext cx="4784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1800" spc="-1" strike="noStrike">
                    <a:solidFill>
                      <a:srgbClr val="ffffff"/>
                    </a:solidFill>
                    <a:latin typeface="Tahoma"/>
                    <a:cs typeface="Arial"/>
                  </a:rPr>
                  <a:t>رفتار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_s2058"/>
              <p:cNvSpPr/>
              <p:nvPr/>
            </p:nvSpPr>
            <p:spPr>
              <a:xfrm>
                <a:off x="1436760" y="2535120"/>
                <a:ext cx="4784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1800" spc="-1" strike="noStrike">
                    <a:solidFill>
                      <a:srgbClr val="ffffff"/>
                    </a:solidFill>
                    <a:latin typeface="Tahoma"/>
                    <a:cs typeface="Arial"/>
                  </a:rPr>
                  <a:t>نرم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_s2059"/>
              <p:cNvSpPr/>
              <p:nvPr/>
            </p:nvSpPr>
            <p:spPr>
              <a:xfrm>
                <a:off x="281880" y="2535840"/>
                <a:ext cx="4784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1800" spc="-1" strike="noStrike">
                    <a:solidFill>
                      <a:srgbClr val="ffffff"/>
                    </a:solidFill>
                    <a:latin typeface="Tahoma"/>
                    <a:cs typeface="Arial"/>
                  </a:rPr>
                  <a:t>فرهنگ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9" name="Line 51"/>
            <p:cNvSpPr/>
            <p:nvPr/>
          </p:nvSpPr>
          <p:spPr>
            <a:xfrm>
              <a:off x="1563480" y="3357720"/>
              <a:ext cx="331200" cy="28728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EE2C-6D7A-41BE-9B05-B775ACAB4D5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3368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1901880" y="620640"/>
            <a:ext cx="7644240" cy="5279040"/>
            <a:chOff x="1901880" y="620640"/>
            <a:chExt cx="7644240" cy="5279040"/>
          </a:xfrm>
        </p:grpSpPr>
        <p:sp>
          <p:nvSpPr>
            <p:cNvPr id="253" name="Line 5"/>
            <p:cNvSpPr/>
            <p:nvPr/>
          </p:nvSpPr>
          <p:spPr>
            <a:xfrm>
              <a:off x="3844800" y="2138400"/>
              <a:ext cx="356760" cy="426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54" name="Group 6"/>
            <p:cNvGrpSpPr/>
            <p:nvPr/>
          </p:nvGrpSpPr>
          <p:grpSpPr>
            <a:xfrm>
              <a:off x="1901880" y="620640"/>
              <a:ext cx="7644240" cy="5279040"/>
              <a:chOff x="1901880" y="620640"/>
              <a:chExt cx="7644240" cy="5279040"/>
            </a:xfrm>
          </p:grpSpPr>
          <p:sp>
            <p:nvSpPr>
              <p:cNvPr id="255" name="Rectangle 7"/>
              <p:cNvSpPr/>
              <p:nvPr/>
            </p:nvSpPr>
            <p:spPr>
              <a:xfrm>
                <a:off x="4349520" y="2565360"/>
                <a:ext cx="1439640" cy="9367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رفتار و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سبك زندگي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8"/>
              <p:cNvSpPr/>
              <p:nvPr/>
            </p:nvSpPr>
            <p:spPr>
              <a:xfrm>
                <a:off x="6294240" y="3427560"/>
                <a:ext cx="1142640" cy="865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مشكل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 بهداشتي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Line 9"/>
              <p:cNvSpPr/>
              <p:nvPr/>
            </p:nvSpPr>
            <p:spPr>
              <a:xfrm flipV="1">
                <a:off x="5860800" y="4220640"/>
                <a:ext cx="433080" cy="3603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AutoShape 10"/>
              <p:cNvSpPr/>
              <p:nvPr/>
            </p:nvSpPr>
            <p:spPr>
              <a:xfrm>
                <a:off x="4946400" y="1916280"/>
                <a:ext cx="4024080" cy="360360"/>
              </a:xfrm>
              <a:prstGeom prst="leftArrow">
                <a:avLst>
                  <a:gd name="adj1" fmla="val 50000"/>
                  <a:gd name="adj2" fmla="val 279171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7878600" y="3370320"/>
                <a:ext cx="1142640" cy="10666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800" spc="-1" strike="noStrike">
                    <a:solidFill>
                      <a:srgbClr val="ffffff"/>
                    </a:solidFill>
                    <a:latin typeface="Arial"/>
                  </a:rPr>
                  <a:t>كيفيت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800" spc="-1" strike="noStrike">
                    <a:solidFill>
                      <a:srgbClr val="ffffff"/>
                    </a:solidFill>
                    <a:latin typeface="Arial"/>
                  </a:rPr>
                  <a:t> زندگي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Line 12"/>
              <p:cNvSpPr/>
              <p:nvPr/>
            </p:nvSpPr>
            <p:spPr>
              <a:xfrm>
                <a:off x="7445160" y="3860640"/>
                <a:ext cx="4316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13"/>
              <p:cNvSpPr/>
              <p:nvPr/>
            </p:nvSpPr>
            <p:spPr>
              <a:xfrm>
                <a:off x="4421160" y="4581360"/>
                <a:ext cx="1368000" cy="57636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3200" spc="-1" strike="noStrike">
                    <a:solidFill>
                      <a:srgbClr val="ffffff"/>
                    </a:solidFill>
                    <a:latin typeface="Arial"/>
                  </a:rPr>
                  <a:t>محيط</a:t>
                </a: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Line 14"/>
              <p:cNvSpPr/>
              <p:nvPr/>
            </p:nvSpPr>
            <p:spPr>
              <a:xfrm>
                <a:off x="5860800" y="3357720"/>
                <a:ext cx="357120" cy="14256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>
                <a:off x="4997160" y="3573360"/>
                <a:ext cx="0" cy="1008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Line 16"/>
              <p:cNvSpPr/>
              <p:nvPr/>
            </p:nvSpPr>
            <p:spPr>
              <a:xfrm flipV="1">
                <a:off x="5789520" y="4292640"/>
                <a:ext cx="2088720" cy="792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Line 17"/>
              <p:cNvSpPr/>
              <p:nvPr/>
            </p:nvSpPr>
            <p:spPr>
              <a:xfrm>
                <a:off x="5860800" y="2637000"/>
                <a:ext cx="1946160" cy="936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AutoShape 18"/>
              <p:cNvSpPr/>
              <p:nvPr/>
            </p:nvSpPr>
            <p:spPr>
              <a:xfrm rot="5400000">
                <a:off x="8254440" y="747720"/>
                <a:ext cx="289080" cy="147600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38160 h 1476000"/>
                  <a:gd name="textAreaBottom" fmla="*/ 1437840 h 147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AutoShape 19"/>
              <p:cNvSpPr/>
              <p:nvPr/>
            </p:nvSpPr>
            <p:spPr>
              <a:xfrm rot="5400000">
                <a:off x="6671520" y="747360"/>
                <a:ext cx="289080" cy="147636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38160 h 1476360"/>
                  <a:gd name="textAreaBottom" fmla="*/ 1438200 h 14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AutoShape 20"/>
              <p:cNvSpPr/>
              <p:nvPr/>
            </p:nvSpPr>
            <p:spPr>
              <a:xfrm rot="5400000">
                <a:off x="4942800" y="747720"/>
                <a:ext cx="289080" cy="147600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38160 h 1476000"/>
                  <a:gd name="textAreaBottom" fmla="*/ 1437840 h 147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21"/>
              <p:cNvSpPr/>
              <p:nvPr/>
            </p:nvSpPr>
            <p:spPr>
              <a:xfrm>
                <a:off x="8021520" y="1557360"/>
                <a:ext cx="82656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hase 1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22"/>
              <p:cNvSpPr/>
              <p:nvPr/>
            </p:nvSpPr>
            <p:spPr>
              <a:xfrm>
                <a:off x="6437160" y="1557360"/>
                <a:ext cx="82692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hase 2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23"/>
              <p:cNvSpPr/>
              <p:nvPr/>
            </p:nvSpPr>
            <p:spPr>
              <a:xfrm>
                <a:off x="4709880" y="1557360"/>
                <a:ext cx="82692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hase 3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Text Box 24"/>
              <p:cNvSpPr/>
              <p:nvPr/>
            </p:nvSpPr>
            <p:spPr>
              <a:xfrm>
                <a:off x="7234920" y="828720"/>
                <a:ext cx="231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تشخيص اجتماعي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Text Box 25"/>
              <p:cNvSpPr/>
              <p:nvPr/>
            </p:nvSpPr>
            <p:spPr>
              <a:xfrm>
                <a:off x="5688000" y="765000"/>
                <a:ext cx="2190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تشخيص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اپيدميولوژي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Text Box 26"/>
              <p:cNvSpPr/>
              <p:nvPr/>
            </p:nvSpPr>
            <p:spPr>
              <a:xfrm>
                <a:off x="3917880" y="711360"/>
                <a:ext cx="2190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تشخيص رفتاري و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محيطي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27"/>
              <p:cNvSpPr/>
              <p:nvPr/>
            </p:nvSpPr>
            <p:spPr>
              <a:xfrm>
                <a:off x="2117520" y="1771560"/>
                <a:ext cx="1695240" cy="108108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400" spc="-1" strike="noStrike">
                    <a:solidFill>
                      <a:srgbClr val="ffffff"/>
                    </a:solidFill>
                    <a:latin typeface="Arial"/>
                  </a:rPr>
                  <a:t>عوامل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400" spc="-1" strike="noStrike">
                    <a:solidFill>
                      <a:srgbClr val="ffffff"/>
                    </a:solidFill>
                    <a:latin typeface="Arial"/>
                  </a:rPr>
                  <a:t>مساعد كننده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28"/>
              <p:cNvSpPr/>
              <p:nvPr/>
            </p:nvSpPr>
            <p:spPr>
              <a:xfrm>
                <a:off x="2077920" y="3141720"/>
                <a:ext cx="1766520" cy="100800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400" spc="-1" strike="noStrike">
                    <a:solidFill>
                      <a:srgbClr val="ffffff"/>
                    </a:solidFill>
                    <a:latin typeface="Arial"/>
                  </a:rPr>
                  <a:t>عوامل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400" spc="-1" strike="noStrike">
                    <a:solidFill>
                      <a:srgbClr val="ffffff"/>
                    </a:solidFill>
                    <a:latin typeface="Arial"/>
                  </a:rPr>
                  <a:t> تقويت كننده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77" name="Group 29"/>
              <p:cNvGrpSpPr/>
              <p:nvPr/>
            </p:nvGrpSpPr>
            <p:grpSpPr>
              <a:xfrm>
                <a:off x="2117520" y="4419720"/>
                <a:ext cx="1726920" cy="1479960"/>
                <a:chOff x="2117520" y="4419720"/>
                <a:chExt cx="1726920" cy="1479960"/>
              </a:xfrm>
            </p:grpSpPr>
            <p:sp>
              <p:nvSpPr>
                <p:cNvPr id="278" name="Rectangle 30"/>
                <p:cNvSpPr/>
                <p:nvPr/>
              </p:nvSpPr>
              <p:spPr>
                <a:xfrm>
                  <a:off x="2117520" y="4419720"/>
                  <a:ext cx="1726920" cy="1169640"/>
                </a:xfrm>
                <a:prstGeom prst="rect">
                  <a:avLst/>
                </a:prstGeom>
                <a:solidFill>
                  <a:srgbClr val="cc00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9" name="Text Box 31"/>
                <p:cNvSpPr/>
                <p:nvPr/>
              </p:nvSpPr>
              <p:spPr>
                <a:xfrm>
                  <a:off x="2117520" y="4509720"/>
                  <a:ext cx="1576440" cy="13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lnSpc>
                      <a:spcPct val="9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a-IR" sz="2400" spc="-1" strike="noStrike">
                      <a:solidFill>
                        <a:srgbClr val="ffffff"/>
                      </a:solidFill>
                      <a:latin typeface="Arial"/>
                    </a:rPr>
                    <a:t>عوامل 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 rtl="1">
                    <a:lnSpc>
                      <a:spcPct val="9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a-IR" sz="2400" spc="-1" strike="noStrike">
                      <a:solidFill>
                        <a:srgbClr val="ffffff"/>
                      </a:solidFill>
                      <a:latin typeface="Arial"/>
                    </a:rPr>
                    <a:t>قادر كننده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ts val="19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80" name="Line 32"/>
              <p:cNvSpPr/>
              <p:nvPr/>
            </p:nvSpPr>
            <p:spPr>
              <a:xfrm>
                <a:off x="3844800" y="3357720"/>
                <a:ext cx="360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Line 33"/>
              <p:cNvSpPr/>
              <p:nvPr/>
            </p:nvSpPr>
            <p:spPr>
              <a:xfrm flipV="1">
                <a:off x="3917880" y="3573000"/>
                <a:ext cx="576000" cy="8636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Line 34"/>
              <p:cNvSpPr/>
              <p:nvPr/>
            </p:nvSpPr>
            <p:spPr>
              <a:xfrm flipV="1">
                <a:off x="3844800" y="4941720"/>
                <a:ext cx="576000" cy="5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Line 35"/>
              <p:cNvSpPr/>
              <p:nvPr/>
            </p:nvSpPr>
            <p:spPr>
              <a:xfrm flipV="1">
                <a:off x="2909880" y="4149720"/>
                <a:ext cx="0" cy="28728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Line 36"/>
              <p:cNvSpPr/>
              <p:nvPr/>
            </p:nvSpPr>
            <p:spPr>
              <a:xfrm flipV="1">
                <a:off x="2836800" y="2781360"/>
                <a:ext cx="0" cy="28728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AutoShape 37"/>
              <p:cNvSpPr/>
              <p:nvPr/>
            </p:nvSpPr>
            <p:spPr>
              <a:xfrm rot="5400000">
                <a:off x="2800080" y="583920"/>
                <a:ext cx="288720" cy="1800000"/>
              </a:xfrm>
              <a:custGeom>
                <a:avLst/>
                <a:gdLst>
                  <a:gd name="textAreaLeft" fmla="*/ 184680 w 288720"/>
                  <a:gd name="textAreaRight" fmla="*/ 289080 w 288720"/>
                  <a:gd name="textAreaTop" fmla="*/ 46800 h 1800000"/>
                  <a:gd name="textAreaBottom" fmla="*/ 1753200 h 180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38"/>
              <p:cNvSpPr/>
              <p:nvPr/>
            </p:nvSpPr>
            <p:spPr>
              <a:xfrm>
                <a:off x="2549520" y="1484280"/>
                <a:ext cx="82656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hase 4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1901880" y="620640"/>
                <a:ext cx="2190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تشخيص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آموزشي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88" name="AutoShape 40"/>
          <p:cNvSpPr/>
          <p:nvPr/>
        </p:nvSpPr>
        <p:spPr>
          <a:xfrm>
            <a:off x="4068720" y="5373720"/>
            <a:ext cx="5075280" cy="1341360"/>
          </a:xfrm>
          <a:prstGeom prst="wedgeRectCallout">
            <a:avLst>
              <a:gd name="adj1" fmla="val -54814"/>
              <a:gd name="adj2" fmla="val -72601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</a:rPr>
              <a:t>فراهم بودن و دردسترس بود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</a:rPr>
              <a:t>اولويت بخشي، قانون، و تعهد اجتماعي و دولت به سلام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</a:rPr>
              <a:t>مهارت و خود كفايتي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43"/>
          <p:cNvSpPr/>
          <p:nvPr/>
        </p:nvSpPr>
        <p:spPr>
          <a:xfrm>
            <a:off x="5796000" y="321300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DF8F-04C2-4A75-B9F4-D45A6614A91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3368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1908000" y="620640"/>
            <a:ext cx="7536600" cy="5279040"/>
            <a:chOff x="1908000" y="620640"/>
            <a:chExt cx="7536600" cy="5279040"/>
          </a:xfrm>
        </p:grpSpPr>
        <p:sp>
          <p:nvSpPr>
            <p:cNvPr id="293" name="Text Box 5"/>
            <p:cNvSpPr/>
            <p:nvPr/>
          </p:nvSpPr>
          <p:spPr>
            <a:xfrm>
              <a:off x="7349760" y="853920"/>
              <a:ext cx="209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ffffff"/>
                  </a:solidFill>
                  <a:latin typeface="Arial"/>
                </a:rPr>
                <a:t>تشخيص اجتماعي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3924360" y="711360"/>
              <a:ext cx="2190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تشخيص رفتاري و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محيطي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3851280" y="2138400"/>
              <a:ext cx="357120" cy="426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 flipV="1">
              <a:off x="2916360" y="2854440"/>
              <a:ext cx="0" cy="28728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7" name="Group 9"/>
            <p:cNvGrpSpPr/>
            <p:nvPr/>
          </p:nvGrpSpPr>
          <p:grpSpPr>
            <a:xfrm>
              <a:off x="1908000" y="620640"/>
              <a:ext cx="7235640" cy="5279040"/>
              <a:chOff x="1908000" y="620640"/>
              <a:chExt cx="7235640" cy="5279040"/>
            </a:xfrm>
          </p:grpSpPr>
          <p:sp>
            <p:nvSpPr>
              <p:cNvPr id="298" name="Rectangle 10"/>
              <p:cNvSpPr/>
              <p:nvPr/>
            </p:nvSpPr>
            <p:spPr>
              <a:xfrm>
                <a:off x="4356000" y="2565360"/>
                <a:ext cx="1440000" cy="9367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رفتار و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سبك زندگي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1"/>
              <p:cNvSpPr/>
              <p:nvPr/>
            </p:nvSpPr>
            <p:spPr>
              <a:xfrm>
                <a:off x="6300720" y="3427560"/>
                <a:ext cx="1143000" cy="865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مشكل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ff"/>
                    </a:solidFill>
                    <a:latin typeface="Arial"/>
                  </a:rPr>
                  <a:t> بهداشتي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Line 12"/>
              <p:cNvSpPr/>
              <p:nvPr/>
            </p:nvSpPr>
            <p:spPr>
              <a:xfrm flipV="1">
                <a:off x="5867280" y="4220640"/>
                <a:ext cx="433440" cy="3603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AutoShape 13"/>
              <p:cNvSpPr/>
              <p:nvPr/>
            </p:nvSpPr>
            <p:spPr>
              <a:xfrm>
                <a:off x="4952880" y="1916280"/>
                <a:ext cx="4024440" cy="360360"/>
              </a:xfrm>
              <a:prstGeom prst="leftArrow">
                <a:avLst>
                  <a:gd name="adj1" fmla="val 50000"/>
                  <a:gd name="adj2" fmla="val 279196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4"/>
              <p:cNvSpPr/>
              <p:nvPr/>
            </p:nvSpPr>
            <p:spPr>
              <a:xfrm>
                <a:off x="7885080" y="3370320"/>
                <a:ext cx="1143000" cy="10666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800" spc="-1" strike="noStrike">
                    <a:solidFill>
                      <a:srgbClr val="ffffff"/>
                    </a:solidFill>
                    <a:latin typeface="Arial"/>
                  </a:rPr>
                  <a:t>كيفيت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800" spc="-1" strike="noStrike">
                    <a:solidFill>
                      <a:srgbClr val="ffffff"/>
                    </a:solidFill>
                    <a:latin typeface="Arial"/>
                  </a:rPr>
                  <a:t> زندگي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Line 15"/>
              <p:cNvSpPr/>
              <p:nvPr/>
            </p:nvSpPr>
            <p:spPr>
              <a:xfrm>
                <a:off x="7451640" y="3860640"/>
                <a:ext cx="432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6"/>
              <p:cNvSpPr/>
              <p:nvPr/>
            </p:nvSpPr>
            <p:spPr>
              <a:xfrm>
                <a:off x="4427640" y="4581360"/>
                <a:ext cx="1368360" cy="57636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3200" spc="-1" strike="noStrike">
                    <a:solidFill>
                      <a:srgbClr val="ffffff"/>
                    </a:solidFill>
                    <a:latin typeface="Arial"/>
                  </a:rPr>
                  <a:t>محيط</a:t>
                </a: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Line 17"/>
              <p:cNvSpPr/>
              <p:nvPr/>
            </p:nvSpPr>
            <p:spPr>
              <a:xfrm>
                <a:off x="5867280" y="3357720"/>
                <a:ext cx="357480" cy="1425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Line 18"/>
              <p:cNvSpPr/>
              <p:nvPr/>
            </p:nvSpPr>
            <p:spPr>
              <a:xfrm>
                <a:off x="5003640" y="3573360"/>
                <a:ext cx="0" cy="1008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Line 19"/>
              <p:cNvSpPr/>
              <p:nvPr/>
            </p:nvSpPr>
            <p:spPr>
              <a:xfrm flipV="1">
                <a:off x="5796000" y="4292640"/>
                <a:ext cx="2089080" cy="792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Line 20"/>
              <p:cNvSpPr/>
              <p:nvPr/>
            </p:nvSpPr>
            <p:spPr>
              <a:xfrm>
                <a:off x="5867280" y="2637000"/>
                <a:ext cx="1946520" cy="936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AutoShape 21"/>
              <p:cNvSpPr/>
              <p:nvPr/>
            </p:nvSpPr>
            <p:spPr>
              <a:xfrm rot="5400000">
                <a:off x="8260920" y="747360"/>
                <a:ext cx="289080" cy="147636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38160 h 1476360"/>
                  <a:gd name="textAreaBottom" fmla="*/ 1438200 h 14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AutoShape 22"/>
              <p:cNvSpPr/>
              <p:nvPr/>
            </p:nvSpPr>
            <p:spPr>
              <a:xfrm rot="5400000">
                <a:off x="6678360" y="747360"/>
                <a:ext cx="289080" cy="147672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38520 h 1476720"/>
                  <a:gd name="textAreaBottom" fmla="*/ 1438200 h 14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AutoShape 23"/>
              <p:cNvSpPr/>
              <p:nvPr/>
            </p:nvSpPr>
            <p:spPr>
              <a:xfrm rot="5400000">
                <a:off x="4949280" y="747360"/>
                <a:ext cx="289080" cy="1476360"/>
              </a:xfrm>
              <a:custGeom>
                <a:avLst/>
                <a:gdLst>
                  <a:gd name="textAreaLeft" fmla="*/ 184680 w 289080"/>
                  <a:gd name="textAreaRight" fmla="*/ 289080 w 289080"/>
                  <a:gd name="textAreaTop" fmla="*/ 38160 h 1476360"/>
                  <a:gd name="textAreaBottom" fmla="*/ 1438200 h 14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24"/>
              <p:cNvSpPr/>
              <p:nvPr/>
            </p:nvSpPr>
            <p:spPr>
              <a:xfrm>
                <a:off x="8028000" y="1557360"/>
                <a:ext cx="82692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Phase 1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25"/>
              <p:cNvSpPr/>
              <p:nvPr/>
            </p:nvSpPr>
            <p:spPr>
              <a:xfrm>
                <a:off x="6443640" y="1557360"/>
                <a:ext cx="82728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Phase 2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26"/>
              <p:cNvSpPr/>
              <p:nvPr/>
            </p:nvSpPr>
            <p:spPr>
              <a:xfrm>
                <a:off x="4716360" y="1557360"/>
                <a:ext cx="82728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Phase 3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Text Box 27"/>
              <p:cNvSpPr/>
              <p:nvPr/>
            </p:nvSpPr>
            <p:spPr>
              <a:xfrm>
                <a:off x="5694480" y="765000"/>
                <a:ext cx="2190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تشخيص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اپيدميولوژي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28"/>
              <p:cNvSpPr/>
              <p:nvPr/>
            </p:nvSpPr>
            <p:spPr>
              <a:xfrm>
                <a:off x="2124000" y="1771560"/>
                <a:ext cx="1695600" cy="108108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400" spc="-1" strike="noStrike">
                    <a:solidFill>
                      <a:srgbClr val="ffffff"/>
                    </a:solidFill>
                    <a:latin typeface="Arial"/>
                  </a:rPr>
                  <a:t>عوامل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400" spc="-1" strike="noStrike">
                    <a:solidFill>
                      <a:srgbClr val="ffffff"/>
                    </a:solidFill>
                    <a:latin typeface="Arial"/>
                  </a:rPr>
                  <a:t>مساعد كننده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29"/>
              <p:cNvSpPr/>
              <p:nvPr/>
            </p:nvSpPr>
            <p:spPr>
              <a:xfrm>
                <a:off x="2084400" y="3141720"/>
                <a:ext cx="1766880" cy="100800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400" spc="-1" strike="noStrike">
                    <a:solidFill>
                      <a:srgbClr val="ffffff"/>
                    </a:solidFill>
                    <a:latin typeface="Arial"/>
                  </a:rPr>
                  <a:t>عوامل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 rtl="1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400" spc="-1" strike="noStrike">
                    <a:solidFill>
                      <a:srgbClr val="ffffff"/>
                    </a:solidFill>
                    <a:latin typeface="Arial"/>
                  </a:rPr>
                  <a:t> تقويت كننده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18" name="Group 30"/>
              <p:cNvGrpSpPr/>
              <p:nvPr/>
            </p:nvGrpSpPr>
            <p:grpSpPr>
              <a:xfrm>
                <a:off x="2124000" y="4419720"/>
                <a:ext cx="1727280" cy="1479960"/>
                <a:chOff x="2124000" y="4419720"/>
                <a:chExt cx="1727280" cy="1479960"/>
              </a:xfrm>
            </p:grpSpPr>
            <p:sp>
              <p:nvSpPr>
                <p:cNvPr id="319" name="Rectangle 31"/>
                <p:cNvSpPr/>
                <p:nvPr/>
              </p:nvSpPr>
              <p:spPr>
                <a:xfrm>
                  <a:off x="2124000" y="4419720"/>
                  <a:ext cx="1727280" cy="1169640"/>
                </a:xfrm>
                <a:prstGeom prst="rect">
                  <a:avLst/>
                </a:prstGeom>
                <a:solidFill>
                  <a:srgbClr val="cc00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0" name="Text Box 32"/>
                <p:cNvSpPr/>
                <p:nvPr/>
              </p:nvSpPr>
              <p:spPr>
                <a:xfrm>
                  <a:off x="2124000" y="4509720"/>
                  <a:ext cx="1576800" cy="13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lnSpc>
                      <a:spcPct val="9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a-IR" sz="2400" spc="-1" strike="noStrike">
                      <a:solidFill>
                        <a:srgbClr val="ffffff"/>
                      </a:solidFill>
                      <a:latin typeface="Arial"/>
                    </a:rPr>
                    <a:t>عوامل 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 rtl="1">
                    <a:lnSpc>
                      <a:spcPct val="9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a-IR" sz="2400" spc="-1" strike="noStrike">
                      <a:solidFill>
                        <a:srgbClr val="ffffff"/>
                      </a:solidFill>
                      <a:latin typeface="Arial"/>
                    </a:rPr>
                    <a:t>قادر كننده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ts val="19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21" name="Line 33"/>
              <p:cNvSpPr/>
              <p:nvPr/>
            </p:nvSpPr>
            <p:spPr>
              <a:xfrm>
                <a:off x="3851280" y="3357720"/>
                <a:ext cx="3603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 flipV="1">
                <a:off x="3924360" y="3573000"/>
                <a:ext cx="576360" cy="8636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 flipV="1">
                <a:off x="3851280" y="4941720"/>
                <a:ext cx="576360" cy="5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Line 36"/>
              <p:cNvSpPr/>
              <p:nvPr/>
            </p:nvSpPr>
            <p:spPr>
              <a:xfrm flipV="1">
                <a:off x="2916360" y="4149720"/>
                <a:ext cx="0" cy="28728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AutoShape 37"/>
              <p:cNvSpPr/>
              <p:nvPr/>
            </p:nvSpPr>
            <p:spPr>
              <a:xfrm rot="5400000">
                <a:off x="2806200" y="583920"/>
                <a:ext cx="288720" cy="1800360"/>
              </a:xfrm>
              <a:custGeom>
                <a:avLst/>
                <a:gdLst>
                  <a:gd name="textAreaLeft" fmla="*/ 184680 w 288720"/>
                  <a:gd name="textAreaRight" fmla="*/ 289080 w 288720"/>
                  <a:gd name="textAreaTop" fmla="*/ 46800 h 1800360"/>
                  <a:gd name="textAreaBottom" fmla="*/ 17535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38"/>
              <p:cNvSpPr/>
              <p:nvPr/>
            </p:nvSpPr>
            <p:spPr>
              <a:xfrm>
                <a:off x="2556000" y="1484280"/>
                <a:ext cx="82692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Phase 4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Text Box 39"/>
              <p:cNvSpPr/>
              <p:nvPr/>
            </p:nvSpPr>
            <p:spPr>
              <a:xfrm>
                <a:off x="1908000" y="620640"/>
                <a:ext cx="2190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تشخيص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آموزشي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28" name="Group 40"/>
          <p:cNvGrpSpPr/>
          <p:nvPr/>
        </p:nvGrpSpPr>
        <p:grpSpPr>
          <a:xfrm>
            <a:off x="0" y="620640"/>
            <a:ext cx="2203560" cy="4916520"/>
            <a:chOff x="0" y="620640"/>
            <a:chExt cx="2203560" cy="4916520"/>
          </a:xfrm>
        </p:grpSpPr>
        <p:grpSp>
          <p:nvGrpSpPr>
            <p:cNvPr id="329" name="Group 41"/>
            <p:cNvGrpSpPr/>
            <p:nvPr/>
          </p:nvGrpSpPr>
          <p:grpSpPr>
            <a:xfrm>
              <a:off x="0" y="620640"/>
              <a:ext cx="2203560" cy="4916520"/>
              <a:chOff x="0" y="620640"/>
              <a:chExt cx="2203560" cy="4916520"/>
            </a:xfrm>
          </p:grpSpPr>
          <p:sp>
            <p:nvSpPr>
              <p:cNvPr id="330" name="Rectangle 42"/>
              <p:cNvSpPr/>
              <p:nvPr/>
            </p:nvSpPr>
            <p:spPr>
              <a:xfrm>
                <a:off x="0" y="1844640"/>
                <a:ext cx="1800360" cy="369252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Line 43"/>
              <p:cNvSpPr/>
              <p:nvPr/>
            </p:nvSpPr>
            <p:spPr>
              <a:xfrm flipV="1">
                <a:off x="1619280" y="2565000"/>
                <a:ext cx="504720" cy="576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Line 44"/>
              <p:cNvSpPr/>
              <p:nvPr/>
            </p:nvSpPr>
            <p:spPr>
              <a:xfrm>
                <a:off x="1619280" y="3284640"/>
                <a:ext cx="441360" cy="449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Line 45"/>
              <p:cNvSpPr/>
              <p:nvPr/>
            </p:nvSpPr>
            <p:spPr>
              <a:xfrm>
                <a:off x="1611360" y="4941720"/>
                <a:ext cx="512640" cy="11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Line 46"/>
              <p:cNvSpPr/>
              <p:nvPr/>
            </p:nvSpPr>
            <p:spPr>
              <a:xfrm>
                <a:off x="1619280" y="3500280"/>
                <a:ext cx="584280" cy="1092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AutoShape 47"/>
              <p:cNvSpPr/>
              <p:nvPr/>
            </p:nvSpPr>
            <p:spPr>
              <a:xfrm rot="5400000">
                <a:off x="719280" y="655200"/>
                <a:ext cx="288720" cy="1657440"/>
              </a:xfrm>
              <a:custGeom>
                <a:avLst/>
                <a:gdLst>
                  <a:gd name="textAreaLeft" fmla="*/ 184680 w 288720"/>
                  <a:gd name="textAreaRight" fmla="*/ 289080 w 288720"/>
                  <a:gd name="textAreaTop" fmla="*/ 43200 h 1657440"/>
                  <a:gd name="textAreaBottom" fmla="*/ 1614240 h 165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160"/>
                    </a:lnTo>
                    <a:cubicBezTo>
                      <a:pt x="10800" y="10060"/>
                      <a:pt x="5400" y="10960"/>
                      <a:pt x="0" y="10960"/>
                    </a:cubicBezTo>
                    <a:cubicBezTo>
                      <a:pt x="5400" y="10960"/>
                      <a:pt x="10800" y="11860"/>
                      <a:pt x="10800" y="1276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48"/>
              <p:cNvSpPr/>
              <p:nvPr/>
            </p:nvSpPr>
            <p:spPr>
              <a:xfrm>
                <a:off x="395280" y="1557360"/>
                <a:ext cx="82692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Times New Roman"/>
                    <a:ea typeface="Times New Roman"/>
                  </a:rPr>
                  <a:t>Phase 5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Text Box 49"/>
              <p:cNvSpPr/>
              <p:nvPr/>
            </p:nvSpPr>
            <p:spPr>
              <a:xfrm>
                <a:off x="0" y="620640"/>
                <a:ext cx="21906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تشخيص مديريتي و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ffffff"/>
                    </a:solidFill>
                    <a:latin typeface="Arial"/>
                  </a:rPr>
                  <a:t>سياستگذاري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38" name="Rectangle 50"/>
            <p:cNvSpPr/>
            <p:nvPr/>
          </p:nvSpPr>
          <p:spPr>
            <a:xfrm>
              <a:off x="0" y="1989000"/>
              <a:ext cx="1692360" cy="576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cc3300"/>
                  </a:solidFill>
                  <a:latin typeface="Arial"/>
                </a:rPr>
                <a:t>ارتقا</a:t>
              </a:r>
              <a:r>
                <a:rPr b="1" lang="ar-SA" sz="2800" spc="-1" strike="noStrike">
                  <a:solidFill>
                    <a:srgbClr val="cc3300"/>
                  </a:solidFill>
                  <a:latin typeface="Arial"/>
                </a:rPr>
                <a:t>ي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cc3300"/>
                  </a:solidFill>
                  <a:latin typeface="Arial"/>
                </a:rPr>
                <a:t>سلامت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9" name="Group 51"/>
          <p:cNvGrpSpPr/>
          <p:nvPr/>
        </p:nvGrpSpPr>
        <p:grpSpPr>
          <a:xfrm>
            <a:off x="108000" y="2781360"/>
            <a:ext cx="1512720" cy="2519280"/>
            <a:chOff x="108000" y="2781360"/>
            <a:chExt cx="1512720" cy="2519280"/>
          </a:xfrm>
        </p:grpSpPr>
        <p:sp>
          <p:nvSpPr>
            <p:cNvPr id="340" name="Rectangle 52"/>
            <p:cNvSpPr/>
            <p:nvPr/>
          </p:nvSpPr>
          <p:spPr>
            <a:xfrm>
              <a:off x="108000" y="4221000"/>
              <a:ext cx="1512720" cy="107964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سياست و ضوابط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سازمان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ي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53"/>
            <p:cNvSpPr/>
            <p:nvPr/>
          </p:nvSpPr>
          <p:spPr>
            <a:xfrm>
              <a:off x="108000" y="2781360"/>
              <a:ext cx="1512720" cy="79200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</a:rPr>
                <a:t>آموزش بهداشت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Line 54"/>
            <p:cNvSpPr/>
            <p:nvPr/>
          </p:nvSpPr>
          <p:spPr>
            <a:xfrm>
              <a:off x="826920" y="3573360"/>
              <a:ext cx="0" cy="57636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3" name="Group 55"/>
          <p:cNvGrpSpPr/>
          <p:nvPr/>
        </p:nvGrpSpPr>
        <p:grpSpPr>
          <a:xfrm>
            <a:off x="-252360" y="5560920"/>
            <a:ext cx="8915040" cy="1296720"/>
            <a:chOff x="-252360" y="5560920"/>
            <a:chExt cx="8915040" cy="1296720"/>
          </a:xfrm>
        </p:grpSpPr>
        <p:sp>
          <p:nvSpPr>
            <p:cNvPr id="344" name="Text Box 56"/>
            <p:cNvSpPr/>
            <p:nvPr/>
          </p:nvSpPr>
          <p:spPr>
            <a:xfrm>
              <a:off x="1006560" y="5921280"/>
              <a:ext cx="100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  اجرا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AutoShape 57"/>
            <p:cNvSpPr/>
            <p:nvPr/>
          </p:nvSpPr>
          <p:spPr>
            <a:xfrm rot="10800000">
              <a:off x="204480" y="6476400"/>
              <a:ext cx="8458200" cy="381240"/>
            </a:xfrm>
            <a:prstGeom prst="leftArrow">
              <a:avLst>
                <a:gd name="adj1" fmla="val 50000"/>
                <a:gd name="adj2" fmla="val 554651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AutoShape 58"/>
            <p:cNvSpPr/>
            <p:nvPr/>
          </p:nvSpPr>
          <p:spPr>
            <a:xfrm rot="16200000">
              <a:off x="1565280" y="3960720"/>
              <a:ext cx="216000" cy="38512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00440 h 3851280"/>
                <a:gd name="textAreaBottom" fmla="*/ 3750840 h 38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Rectangle 59"/>
            <p:cNvSpPr/>
            <p:nvPr/>
          </p:nvSpPr>
          <p:spPr>
            <a:xfrm>
              <a:off x="287280" y="5560920"/>
              <a:ext cx="827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6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8" name="Group 60"/>
          <p:cNvGrpSpPr/>
          <p:nvPr/>
        </p:nvGrpSpPr>
        <p:grpSpPr>
          <a:xfrm>
            <a:off x="6046920" y="5732640"/>
            <a:ext cx="3097080" cy="1551600"/>
            <a:chOff x="6046920" y="5732640"/>
            <a:chExt cx="3097080" cy="1551600"/>
          </a:xfrm>
        </p:grpSpPr>
        <p:sp>
          <p:nvSpPr>
            <p:cNvPr id="349" name="Text Box 61"/>
            <p:cNvSpPr/>
            <p:nvPr/>
          </p:nvSpPr>
          <p:spPr>
            <a:xfrm>
              <a:off x="6588000" y="6093000"/>
              <a:ext cx="197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ارزشيابي پيامد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AutoShape 62"/>
            <p:cNvSpPr/>
            <p:nvPr/>
          </p:nvSpPr>
          <p:spPr>
            <a:xfrm rot="16200000">
              <a:off x="7450920" y="4474080"/>
              <a:ext cx="289080" cy="3097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0640 h 3097080"/>
                <a:gd name="textAreaBottom" fmla="*/ 3016440 h 30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Rectangle 63"/>
            <p:cNvSpPr/>
            <p:nvPr/>
          </p:nvSpPr>
          <p:spPr>
            <a:xfrm>
              <a:off x="7201080" y="5732640"/>
              <a:ext cx="826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9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2" name="Group 64"/>
          <p:cNvGrpSpPr/>
          <p:nvPr/>
        </p:nvGrpSpPr>
        <p:grpSpPr>
          <a:xfrm>
            <a:off x="4356000" y="5661000"/>
            <a:ext cx="1614600" cy="1448640"/>
            <a:chOff x="4356000" y="5661000"/>
            <a:chExt cx="1614600" cy="1448640"/>
          </a:xfrm>
        </p:grpSpPr>
        <p:sp>
          <p:nvSpPr>
            <p:cNvPr id="353" name="Rectangle 65"/>
            <p:cNvSpPr/>
            <p:nvPr/>
          </p:nvSpPr>
          <p:spPr>
            <a:xfrm>
              <a:off x="4681440" y="5661000"/>
              <a:ext cx="827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hase 8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Text Box 66"/>
            <p:cNvSpPr/>
            <p:nvPr/>
          </p:nvSpPr>
          <p:spPr>
            <a:xfrm>
              <a:off x="4356000" y="6100920"/>
              <a:ext cx="1614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</a:rPr>
                <a:t>ارزشيابي اثر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5" name="Group 67"/>
          <p:cNvGrpSpPr/>
          <p:nvPr/>
        </p:nvGrpSpPr>
        <p:grpSpPr>
          <a:xfrm>
            <a:off x="2195640" y="5587920"/>
            <a:ext cx="3744720" cy="1137240"/>
            <a:chOff x="2195640" y="5587920"/>
            <a:chExt cx="3744720" cy="1137240"/>
          </a:xfrm>
        </p:grpSpPr>
        <p:sp>
          <p:nvSpPr>
            <p:cNvPr id="356" name="Text Box 68"/>
            <p:cNvSpPr/>
            <p:nvPr/>
          </p:nvSpPr>
          <p:spPr>
            <a:xfrm>
              <a:off x="2195640" y="6021360"/>
              <a:ext cx="175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</a:rPr>
                <a:t>ارزشيابي فرايند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Rectangle 69"/>
            <p:cNvSpPr/>
            <p:nvPr/>
          </p:nvSpPr>
          <p:spPr>
            <a:xfrm>
              <a:off x="2592360" y="5587920"/>
              <a:ext cx="827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ase 7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AutoShape 70"/>
            <p:cNvSpPr/>
            <p:nvPr/>
          </p:nvSpPr>
          <p:spPr>
            <a:xfrm rot="16200000">
              <a:off x="3923280" y="4138920"/>
              <a:ext cx="289080" cy="3744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97560 h 3744720"/>
                <a:gd name="textAreaBottom" fmla="*/ 3647160 h 37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55FC-D50C-46F1-9821-BC462E9F756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2124000" y="1557360"/>
            <a:ext cx="1828800" cy="13716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ispos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2124000" y="2997360"/>
            <a:ext cx="1828800" cy="1143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inforc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2124000" y="4221000"/>
            <a:ext cx="1828440" cy="1079280"/>
            <a:chOff x="2124000" y="4221000"/>
            <a:chExt cx="1828440" cy="1079280"/>
          </a:xfrm>
        </p:grpSpPr>
        <p:sp>
          <p:nvSpPr>
            <p:cNvPr id="363" name="Rectangle 5"/>
            <p:cNvSpPr/>
            <p:nvPr/>
          </p:nvSpPr>
          <p:spPr>
            <a:xfrm>
              <a:off x="2124000" y="4221000"/>
              <a:ext cx="1828440" cy="1079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Text Box 6"/>
            <p:cNvSpPr/>
            <p:nvPr/>
          </p:nvSpPr>
          <p:spPr>
            <a:xfrm>
              <a:off x="2124000" y="4304160"/>
              <a:ext cx="1669320" cy="92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nabling Factor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5" name="Rectangle 7"/>
          <p:cNvSpPr/>
          <p:nvPr/>
        </p:nvSpPr>
        <p:spPr>
          <a:xfrm>
            <a:off x="4427640" y="2924280"/>
            <a:ext cx="1523880" cy="129528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havior and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ife Sty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6516720" y="3141720"/>
            <a:ext cx="114300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3995640" y="2060640"/>
            <a:ext cx="60984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3924360" y="364500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11"/>
          <p:cNvSpPr/>
          <p:nvPr/>
        </p:nvSpPr>
        <p:spPr>
          <a:xfrm flipV="1">
            <a:off x="3924360" y="4221000"/>
            <a:ext cx="76680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940360" y="3573360"/>
            <a:ext cx="582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AutoShape 13"/>
          <p:cNvSpPr/>
          <p:nvPr/>
        </p:nvSpPr>
        <p:spPr>
          <a:xfrm>
            <a:off x="4952880" y="1676520"/>
            <a:ext cx="4024440" cy="761760"/>
          </a:xfrm>
          <a:prstGeom prst="leftArrow">
            <a:avLst>
              <a:gd name="adj1" fmla="val 50000"/>
              <a:gd name="adj2" fmla="val 13207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33368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181800" y="476280"/>
            <a:ext cx="170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icy a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ministrati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179280" y="1844640"/>
            <a:ext cx="1297080" cy="3733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-304920" y="5578560"/>
            <a:ext cx="26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1905120" y="5578560"/>
            <a:ext cx="262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 Evalu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4267080" y="5578560"/>
            <a:ext cx="262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 Evalu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6597720" y="5562720"/>
            <a:ext cx="262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come Evalu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AutoShape 21"/>
          <p:cNvSpPr/>
          <p:nvPr/>
        </p:nvSpPr>
        <p:spPr>
          <a:xfrm rot="10800000">
            <a:off x="456840" y="5943600"/>
            <a:ext cx="8458200" cy="380880"/>
          </a:xfrm>
          <a:prstGeom prst="leftArrow">
            <a:avLst>
              <a:gd name="adj1" fmla="val 50000"/>
              <a:gd name="adj2" fmla="val 55517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2136240" y="404640"/>
            <a:ext cx="178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uc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ecologic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6082560" y="765000"/>
            <a:ext cx="186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idemiolog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4211640" y="620640"/>
            <a:ext cx="179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havioral 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vironmen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Text Box 25"/>
          <p:cNvSpPr/>
          <p:nvPr/>
        </p:nvSpPr>
        <p:spPr>
          <a:xfrm>
            <a:off x="7962840" y="88596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8028000" y="3141720"/>
            <a:ext cx="8636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Li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7667640" y="3645000"/>
            <a:ext cx="38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28"/>
          <p:cNvSpPr/>
          <p:nvPr/>
        </p:nvSpPr>
        <p:spPr>
          <a:xfrm>
            <a:off x="361800" y="2543040"/>
            <a:ext cx="12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4634640" y="4653000"/>
            <a:ext cx="1512720" cy="3988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30"/>
          <p:cNvSpPr/>
          <p:nvPr/>
        </p:nvSpPr>
        <p:spPr>
          <a:xfrm>
            <a:off x="1619280" y="450864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3924360" y="4869000"/>
            <a:ext cx="718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Line 32"/>
          <p:cNvSpPr/>
          <p:nvPr/>
        </p:nvSpPr>
        <p:spPr>
          <a:xfrm>
            <a:off x="1476360" y="3357720"/>
            <a:ext cx="60948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33"/>
          <p:cNvSpPr/>
          <p:nvPr/>
        </p:nvSpPr>
        <p:spPr>
          <a:xfrm>
            <a:off x="1547640" y="328464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34"/>
          <p:cNvSpPr/>
          <p:nvPr/>
        </p:nvSpPr>
        <p:spPr>
          <a:xfrm flipV="1">
            <a:off x="1619280" y="2781360"/>
            <a:ext cx="504720" cy="317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35"/>
          <p:cNvSpPr/>
          <p:nvPr/>
        </p:nvSpPr>
        <p:spPr>
          <a:xfrm flipV="1">
            <a:off x="6156360" y="4220640"/>
            <a:ext cx="720720" cy="605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36"/>
          <p:cNvSpPr/>
          <p:nvPr/>
        </p:nvSpPr>
        <p:spPr>
          <a:xfrm flipV="1">
            <a:off x="5148360" y="4220640"/>
            <a:ext cx="0" cy="389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37"/>
          <p:cNvSpPr/>
          <p:nvPr/>
        </p:nvSpPr>
        <p:spPr>
          <a:xfrm>
            <a:off x="5435640" y="422100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3A08-ADBA-42FB-85BC-B545B488D18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0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  <a:cs typeface="Lotus"/>
              </a:rPr>
              <a:t>اهميت </a:t>
            </a:r>
            <a:r>
              <a:rPr b="1" lang="fa-IR" sz="4800" spc="-1" strike="noStrike">
                <a:solidFill>
                  <a:srgbClr val="ffffff"/>
                </a:solidFill>
                <a:latin typeface="Arial"/>
                <a:cs typeface="Lotus"/>
              </a:rPr>
              <a:t>الگوي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  <a:ea typeface="Lotus"/>
              </a:rPr>
              <a:t> پرسيد</a:t>
            </a:r>
            <a:r>
              <a:rPr b="1" lang="fa-IR" sz="4800" spc="-1" strike="noStrike">
                <a:solidFill>
                  <a:srgbClr val="ffffff"/>
                </a:solidFill>
                <a:latin typeface="Arial"/>
                <a:ea typeface="Lotus"/>
              </a:rPr>
              <a:t>- پروسيد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بررس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ابطه عليتي در تحليل يک مشکل سلامت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فراهم کردن 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ارچوب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مشخ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براي برنامه ريز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وجه به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تعيي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وضعي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مداخله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و ورو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ي برنامه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inp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پيش بيني تغييرات مورد نظر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Outco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تعيين مسير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ك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سبب برو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نتيجه مشخص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ي م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شود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process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توجه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ويژه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Lotus"/>
              </a:rPr>
              <a:t> به ارتقا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سلام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بهبود كيفيت زندگ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در کليت برنامه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improving qualit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2124000" y="1557360"/>
            <a:ext cx="1828800" cy="13716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ispos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124000" y="2997360"/>
            <a:ext cx="1828800" cy="1143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inforc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2124000" y="4221000"/>
            <a:ext cx="1828440" cy="1079280"/>
            <a:chOff x="2124000" y="4221000"/>
            <a:chExt cx="1828440" cy="1079280"/>
          </a:xfrm>
        </p:grpSpPr>
        <p:sp>
          <p:nvSpPr>
            <p:cNvPr id="399" name="Rectangle 5"/>
            <p:cNvSpPr/>
            <p:nvPr/>
          </p:nvSpPr>
          <p:spPr>
            <a:xfrm>
              <a:off x="2124000" y="4221000"/>
              <a:ext cx="1828440" cy="1079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Text Box 6"/>
            <p:cNvSpPr/>
            <p:nvPr/>
          </p:nvSpPr>
          <p:spPr>
            <a:xfrm>
              <a:off x="2124000" y="4304160"/>
              <a:ext cx="1669320" cy="92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nabling Factor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1" name="Rectangle 7"/>
          <p:cNvSpPr/>
          <p:nvPr/>
        </p:nvSpPr>
        <p:spPr>
          <a:xfrm>
            <a:off x="4427640" y="2924280"/>
            <a:ext cx="1523880" cy="129528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havior 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ife Sty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6516720" y="3141720"/>
            <a:ext cx="114300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3995640" y="2060640"/>
            <a:ext cx="60984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3924360" y="364500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Line 11"/>
          <p:cNvSpPr/>
          <p:nvPr/>
        </p:nvSpPr>
        <p:spPr>
          <a:xfrm flipV="1">
            <a:off x="3924360" y="4221000"/>
            <a:ext cx="76680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12"/>
          <p:cNvSpPr/>
          <p:nvPr/>
        </p:nvSpPr>
        <p:spPr>
          <a:xfrm>
            <a:off x="5940360" y="3573360"/>
            <a:ext cx="582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13"/>
          <p:cNvSpPr/>
          <p:nvPr/>
        </p:nvSpPr>
        <p:spPr>
          <a:xfrm>
            <a:off x="4952880" y="1676520"/>
            <a:ext cx="4024440" cy="761760"/>
          </a:xfrm>
          <a:prstGeom prst="leftArrow">
            <a:avLst>
              <a:gd name="adj1" fmla="val 50000"/>
              <a:gd name="adj2" fmla="val 13207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3184560" y="6508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177120" y="476280"/>
            <a:ext cx="17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icy 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ministrativ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179280" y="1844640"/>
            <a:ext cx="1297080" cy="3733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-304920" y="5578560"/>
            <a:ext cx="26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18"/>
          <p:cNvSpPr/>
          <p:nvPr/>
        </p:nvSpPr>
        <p:spPr>
          <a:xfrm>
            <a:off x="1905120" y="5578560"/>
            <a:ext cx="262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 Evalu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19"/>
          <p:cNvSpPr/>
          <p:nvPr/>
        </p:nvSpPr>
        <p:spPr>
          <a:xfrm>
            <a:off x="4267080" y="5578560"/>
            <a:ext cx="262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 Evalu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6597720" y="5562720"/>
            <a:ext cx="262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come Evalu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AutoShape 21"/>
          <p:cNvSpPr/>
          <p:nvPr/>
        </p:nvSpPr>
        <p:spPr>
          <a:xfrm rot="10800000">
            <a:off x="456840" y="5943600"/>
            <a:ext cx="8458200" cy="380880"/>
          </a:xfrm>
          <a:prstGeom prst="leftArrow">
            <a:avLst>
              <a:gd name="adj1" fmla="val 50000"/>
              <a:gd name="adj2" fmla="val 55517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22"/>
          <p:cNvSpPr/>
          <p:nvPr/>
        </p:nvSpPr>
        <p:spPr>
          <a:xfrm>
            <a:off x="2121840" y="404640"/>
            <a:ext cx="178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uc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ecologic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23"/>
          <p:cNvSpPr/>
          <p:nvPr/>
        </p:nvSpPr>
        <p:spPr>
          <a:xfrm>
            <a:off x="6082560" y="765000"/>
            <a:ext cx="186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idemiolog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4"/>
          <p:cNvSpPr/>
          <p:nvPr/>
        </p:nvSpPr>
        <p:spPr>
          <a:xfrm>
            <a:off x="4211640" y="620640"/>
            <a:ext cx="179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havioral 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vironmen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5"/>
          <p:cNvSpPr/>
          <p:nvPr/>
        </p:nvSpPr>
        <p:spPr>
          <a:xfrm>
            <a:off x="7956000" y="88596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Rectangle 26"/>
          <p:cNvSpPr/>
          <p:nvPr/>
        </p:nvSpPr>
        <p:spPr>
          <a:xfrm>
            <a:off x="8028000" y="3141720"/>
            <a:ext cx="8636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lit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Li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Line 27"/>
          <p:cNvSpPr/>
          <p:nvPr/>
        </p:nvSpPr>
        <p:spPr>
          <a:xfrm>
            <a:off x="7667640" y="3645000"/>
            <a:ext cx="38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28"/>
          <p:cNvSpPr/>
          <p:nvPr/>
        </p:nvSpPr>
        <p:spPr>
          <a:xfrm>
            <a:off x="361080" y="2543040"/>
            <a:ext cx="12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4641120" y="4653000"/>
            <a:ext cx="1512720" cy="3988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Line 30"/>
          <p:cNvSpPr/>
          <p:nvPr/>
        </p:nvSpPr>
        <p:spPr>
          <a:xfrm>
            <a:off x="1619280" y="450864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31"/>
          <p:cNvSpPr/>
          <p:nvPr/>
        </p:nvSpPr>
        <p:spPr>
          <a:xfrm>
            <a:off x="3924360" y="4869000"/>
            <a:ext cx="718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32"/>
          <p:cNvSpPr/>
          <p:nvPr/>
        </p:nvSpPr>
        <p:spPr>
          <a:xfrm>
            <a:off x="1476360" y="3357720"/>
            <a:ext cx="60948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33"/>
          <p:cNvSpPr/>
          <p:nvPr/>
        </p:nvSpPr>
        <p:spPr>
          <a:xfrm>
            <a:off x="1547640" y="328464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34"/>
          <p:cNvSpPr/>
          <p:nvPr/>
        </p:nvSpPr>
        <p:spPr>
          <a:xfrm flipV="1">
            <a:off x="1619280" y="2781360"/>
            <a:ext cx="504720" cy="317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35"/>
          <p:cNvSpPr/>
          <p:nvPr/>
        </p:nvSpPr>
        <p:spPr>
          <a:xfrm flipV="1">
            <a:off x="6156360" y="4220640"/>
            <a:ext cx="720720" cy="605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36"/>
          <p:cNvSpPr/>
          <p:nvPr/>
        </p:nvSpPr>
        <p:spPr>
          <a:xfrm flipV="1">
            <a:off x="5148360" y="4220640"/>
            <a:ext cx="0" cy="389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37"/>
          <p:cNvSpPr/>
          <p:nvPr/>
        </p:nvSpPr>
        <p:spPr>
          <a:xfrm>
            <a:off x="5435640" y="422100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Slide Number Placeholder 3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F765-CA64-49B0-A4AB-E64AD781056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228600" y="71280"/>
            <a:ext cx="96775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oretical Model and conceptual framework planning of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lationships using PREDCEDE-PROCEED Model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raditional Arabic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4" name="AutoShape 3"/>
          <p:cNvSpPr/>
          <p:nvPr/>
        </p:nvSpPr>
        <p:spPr>
          <a:xfrm>
            <a:off x="2971800" y="762120"/>
            <a:ext cx="5700600" cy="457200"/>
          </a:xfrm>
          <a:prstGeom prst="leftArrow">
            <a:avLst>
              <a:gd name="adj1" fmla="val 50000"/>
              <a:gd name="adj2" fmla="val 31171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74160" y="946080"/>
            <a:ext cx="20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Policy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Administra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2513160" y="11588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  <a:ea typeface="Traditional Arabic"/>
              </a:rPr>
              <a:t>Educatio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  <a:ea typeface="Traditional Arabic"/>
              </a:rPr>
              <a:t>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7" name="Group 6"/>
          <p:cNvGrpSpPr/>
          <p:nvPr/>
        </p:nvGrpSpPr>
        <p:grpSpPr>
          <a:xfrm>
            <a:off x="-304920" y="5867280"/>
            <a:ext cx="9525240" cy="841320"/>
            <a:chOff x="-304920" y="5867280"/>
            <a:chExt cx="9525240" cy="841320"/>
          </a:xfrm>
        </p:grpSpPr>
        <p:sp>
          <p:nvSpPr>
            <p:cNvPr id="438" name="Text Box 7"/>
            <p:cNvSpPr/>
            <p:nvPr/>
          </p:nvSpPr>
          <p:spPr>
            <a:xfrm>
              <a:off x="-304920" y="5883120"/>
              <a:ext cx="262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Implementation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Text Box 8"/>
            <p:cNvSpPr/>
            <p:nvPr/>
          </p:nvSpPr>
          <p:spPr>
            <a:xfrm>
              <a:off x="1905120" y="5883120"/>
              <a:ext cx="2622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Process Evaluation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Text Box 9"/>
            <p:cNvSpPr/>
            <p:nvPr/>
          </p:nvSpPr>
          <p:spPr>
            <a:xfrm>
              <a:off x="4267080" y="5883120"/>
              <a:ext cx="2622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Out put Evaluation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Text Box 10"/>
            <p:cNvSpPr/>
            <p:nvPr/>
          </p:nvSpPr>
          <p:spPr>
            <a:xfrm>
              <a:off x="6597720" y="5867280"/>
              <a:ext cx="2622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Out come Evaluation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AutoShape 11"/>
            <p:cNvSpPr/>
            <p:nvPr/>
          </p:nvSpPr>
          <p:spPr>
            <a:xfrm rot="10800000">
              <a:off x="456840" y="6248520"/>
              <a:ext cx="8458200" cy="380880"/>
            </a:xfrm>
            <a:prstGeom prst="leftArrow">
              <a:avLst>
                <a:gd name="adj1" fmla="val 50000"/>
                <a:gd name="adj2" fmla="val 555175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3" name="Group 12"/>
          <p:cNvGrpSpPr/>
          <p:nvPr/>
        </p:nvGrpSpPr>
        <p:grpSpPr>
          <a:xfrm>
            <a:off x="7007400" y="1295280"/>
            <a:ext cx="2276280" cy="3385800"/>
            <a:chOff x="7007400" y="1295280"/>
            <a:chExt cx="2276280" cy="3385800"/>
          </a:xfrm>
        </p:grpSpPr>
        <p:sp>
          <p:nvSpPr>
            <p:cNvPr id="444" name="Text Box 13"/>
            <p:cNvSpPr/>
            <p:nvPr/>
          </p:nvSpPr>
          <p:spPr>
            <a:xfrm>
              <a:off x="7007400" y="1295280"/>
              <a:ext cx="2276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  <a:ea typeface="Traditional Arabic"/>
                </a:rPr>
                <a:t>   </a:t>
              </a: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  <a:ea typeface="Traditional Arabic"/>
                </a:rPr>
                <a:t>Social &amp;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  <a:ea typeface="Traditional Arabic"/>
                </a:rPr>
                <a:t>Epidemiological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  <a:ea typeface="Traditional Arabic"/>
                </a:rPr>
                <a:t>Diagnosi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5" name="Group 14"/>
            <p:cNvGrpSpPr/>
            <p:nvPr/>
          </p:nvGrpSpPr>
          <p:grpSpPr>
            <a:xfrm>
              <a:off x="7467480" y="2971800"/>
              <a:ext cx="1552680" cy="1709280"/>
              <a:chOff x="7467480" y="2971800"/>
              <a:chExt cx="1552680" cy="1709280"/>
            </a:xfrm>
          </p:grpSpPr>
          <p:sp>
            <p:nvSpPr>
              <p:cNvPr id="446" name="Rectangle 15"/>
              <p:cNvSpPr/>
              <p:nvPr/>
            </p:nvSpPr>
            <p:spPr>
              <a:xfrm>
                <a:off x="7620120" y="2971800"/>
                <a:ext cx="1143000" cy="10666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ealt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Problem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16"/>
              <p:cNvSpPr/>
              <p:nvPr/>
            </p:nvSpPr>
            <p:spPr>
              <a:xfrm>
                <a:off x="7467480" y="4038480"/>
                <a:ext cx="1552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Times New Roman"/>
                    <a:ea typeface="Traditional Arabic"/>
                  </a:rPr>
                  <a:t>Students’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Times New Roman"/>
                    <a:ea typeface="Traditional Arabic"/>
                  </a:rPr>
                  <a:t>dissatisfaction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448" name="Group 17"/>
          <p:cNvGrpSpPr/>
          <p:nvPr/>
        </p:nvGrpSpPr>
        <p:grpSpPr>
          <a:xfrm>
            <a:off x="4952880" y="1295280"/>
            <a:ext cx="2514600" cy="4039200"/>
            <a:chOff x="4952880" y="1295280"/>
            <a:chExt cx="2514600" cy="4039200"/>
          </a:xfrm>
        </p:grpSpPr>
        <p:sp>
          <p:nvSpPr>
            <p:cNvPr id="449" name="Text Box 18"/>
            <p:cNvSpPr/>
            <p:nvPr/>
          </p:nvSpPr>
          <p:spPr>
            <a:xfrm>
              <a:off x="5033520" y="1295280"/>
              <a:ext cx="152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Behavioral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Diagnosi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0" name="Group 19"/>
            <p:cNvGrpSpPr/>
            <p:nvPr/>
          </p:nvGrpSpPr>
          <p:grpSpPr>
            <a:xfrm>
              <a:off x="4952880" y="2971800"/>
              <a:ext cx="2514600" cy="2362680"/>
              <a:chOff x="4952880" y="2971800"/>
              <a:chExt cx="2514600" cy="2362680"/>
            </a:xfrm>
          </p:grpSpPr>
          <p:sp>
            <p:nvSpPr>
              <p:cNvPr id="451" name="Rectangle 20"/>
              <p:cNvSpPr/>
              <p:nvPr/>
            </p:nvSpPr>
            <p:spPr>
              <a:xfrm>
                <a:off x="5105520" y="2971800"/>
                <a:ext cx="1523880" cy="129528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Times New Roman"/>
                  </a:rPr>
                  <a:t>Behaviora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Times New Roman"/>
                  </a:rPr>
                  <a:t>Caus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Line 21"/>
              <p:cNvSpPr/>
              <p:nvPr/>
            </p:nvSpPr>
            <p:spPr>
              <a:xfrm>
                <a:off x="6705720" y="3505320"/>
                <a:ext cx="7617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Text Box 22"/>
              <p:cNvSpPr/>
              <p:nvPr/>
            </p:nvSpPr>
            <p:spPr>
              <a:xfrm>
                <a:off x="4952880" y="4267080"/>
                <a:ext cx="18288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Times New Roman"/>
                    <a:ea typeface="Traditional Arabic"/>
                  </a:rPr>
                  <a:t>Utilization appropriate action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Times New Roman"/>
                    <a:ea typeface="Traditional Arabic"/>
                  </a:rPr>
                  <a:t>for advising students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454" name="Group 23"/>
          <p:cNvGrpSpPr/>
          <p:nvPr/>
        </p:nvGrpSpPr>
        <p:grpSpPr>
          <a:xfrm>
            <a:off x="2514600" y="1973160"/>
            <a:ext cx="2590920" cy="1227240"/>
            <a:chOff x="2514600" y="1973160"/>
            <a:chExt cx="2590920" cy="1227240"/>
          </a:xfrm>
        </p:grpSpPr>
        <p:sp>
          <p:nvSpPr>
            <p:cNvPr id="455" name="Line 24"/>
            <p:cNvSpPr/>
            <p:nvPr/>
          </p:nvSpPr>
          <p:spPr>
            <a:xfrm>
              <a:off x="4495680" y="2895480"/>
              <a:ext cx="609840" cy="3049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514600" y="1973160"/>
              <a:ext cx="1981080" cy="106236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Times New Roman"/>
                </a:rPr>
                <a:t>Predisposing Factors: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Times New Roman"/>
                  <a:ea typeface="Traditional Arabic"/>
                </a:rPr>
                <a:t>Knowledge,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Times New Roman"/>
                  <a:ea typeface="Traditional Arabic"/>
                </a:rPr>
                <a:t>values, attitude, belief,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Times New Roman"/>
                  <a:ea typeface="Traditional Arabic"/>
                </a:rPr>
                <a:t>and Perception regarding academic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7" name="Group 26"/>
          <p:cNvGrpSpPr/>
          <p:nvPr/>
        </p:nvGrpSpPr>
        <p:grpSpPr>
          <a:xfrm>
            <a:off x="2514600" y="3400560"/>
            <a:ext cx="2438280" cy="934200"/>
            <a:chOff x="2514600" y="3400560"/>
            <a:chExt cx="2438280" cy="934200"/>
          </a:xfrm>
        </p:grpSpPr>
        <p:sp>
          <p:nvSpPr>
            <p:cNvPr id="458" name="Line 27"/>
            <p:cNvSpPr/>
            <p:nvPr/>
          </p:nvSpPr>
          <p:spPr>
            <a:xfrm>
              <a:off x="4572000" y="3733920"/>
              <a:ext cx="3808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Text Box 28"/>
            <p:cNvSpPr/>
            <p:nvPr/>
          </p:nvSpPr>
          <p:spPr>
            <a:xfrm>
              <a:off x="2514600" y="3400560"/>
              <a:ext cx="1981080" cy="93420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cc00"/>
                  </a:solidFill>
                  <a:latin typeface="Times New Roman"/>
                </a:rPr>
                <a:t>Enabling Factors: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Times New Roman"/>
                  <a:ea typeface="Traditional Arabic"/>
                </a:rPr>
                <a:t>Communication Skills, workshop, Availability of resources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60" name="Group 29"/>
          <p:cNvGrpSpPr/>
          <p:nvPr/>
        </p:nvGrpSpPr>
        <p:grpSpPr>
          <a:xfrm>
            <a:off x="2514600" y="4343400"/>
            <a:ext cx="2514600" cy="1436040"/>
            <a:chOff x="2514600" y="4343400"/>
            <a:chExt cx="2514600" cy="1436040"/>
          </a:xfrm>
        </p:grpSpPr>
        <p:sp>
          <p:nvSpPr>
            <p:cNvPr id="461" name="Line 30"/>
            <p:cNvSpPr/>
            <p:nvPr/>
          </p:nvSpPr>
          <p:spPr>
            <a:xfrm flipV="1">
              <a:off x="4572000" y="4343400"/>
              <a:ext cx="457200" cy="533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Text Box 31"/>
            <p:cNvSpPr/>
            <p:nvPr/>
          </p:nvSpPr>
          <p:spPr>
            <a:xfrm>
              <a:off x="2514600" y="4738680"/>
              <a:ext cx="1981080" cy="104076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Times New Roman"/>
                </a:rPr>
                <a:t>Reinforcing Factors: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  <a:ea typeface="Traditional Arabic"/>
                </a:rPr>
                <a:t>Dean of faculty,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  <a:ea typeface="Traditional Arabic"/>
                </a:rPr>
                <a:t>Co-worker of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  <a:ea typeface="Traditional Arabic"/>
                </a:rPr>
                <a:t>Department Support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63" name="Group 32"/>
          <p:cNvGrpSpPr/>
          <p:nvPr/>
        </p:nvGrpSpPr>
        <p:grpSpPr>
          <a:xfrm>
            <a:off x="152280" y="2155680"/>
            <a:ext cx="2286000" cy="3630600"/>
            <a:chOff x="152280" y="2155680"/>
            <a:chExt cx="2286000" cy="3630600"/>
          </a:xfrm>
        </p:grpSpPr>
        <p:sp>
          <p:nvSpPr>
            <p:cNvPr id="464" name="Line 33"/>
            <p:cNvSpPr/>
            <p:nvPr/>
          </p:nvSpPr>
          <p:spPr>
            <a:xfrm>
              <a:off x="2209680" y="3886200"/>
              <a:ext cx="2286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Rectangle 34"/>
            <p:cNvSpPr/>
            <p:nvPr/>
          </p:nvSpPr>
          <p:spPr>
            <a:xfrm>
              <a:off x="152280" y="2155680"/>
              <a:ext cx="1981440" cy="363060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raditional Arabic"/>
                  <a:ea typeface="Traditional Arabic"/>
                </a:rPr>
                <a:t>Policy,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raditional Arabic"/>
                  <a:ea typeface="Traditional Arabic"/>
                </a:rPr>
                <a:t>Regulation Resource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Traditional Arabic"/>
                  <a:ea typeface="Traditional Arabic"/>
                </a:rPr>
                <a:t>Organization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raditional Arabic"/>
                </a:rPr>
                <a:t>University policy, regulation,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raditional Arabic"/>
                </a:rPr>
                <a:t>and Coordination for Advisor support and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raditional Arabic"/>
                </a:rPr>
                <a:t>valuation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Line 35"/>
            <p:cNvSpPr/>
            <p:nvPr/>
          </p:nvSpPr>
          <p:spPr>
            <a:xfrm>
              <a:off x="2209680" y="5334120"/>
              <a:ext cx="2286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Line 36"/>
            <p:cNvSpPr/>
            <p:nvPr/>
          </p:nvSpPr>
          <p:spPr>
            <a:xfrm>
              <a:off x="2209680" y="2514600"/>
              <a:ext cx="2286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8" name="Slide Number Placeholder 3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AE29-9D16-49A3-B496-0AE03B3CA08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56EA-A0ED-42F8-99E1-0D060B0A5DD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e5ffff"/>
                </a:solidFill>
                <a:latin typeface="Tahoma"/>
                <a:cs typeface="Titr"/>
              </a:rPr>
              <a:t>اهميت الگوي</a:t>
            </a:r>
            <a:r>
              <a:rPr b="0" lang="en-US" sz="6000" spc="-1" strike="noStrike">
                <a:solidFill>
                  <a:srgbClr val="e5ffff"/>
                </a:solidFill>
                <a:latin typeface="Tahoma"/>
                <a:ea typeface="Titr"/>
              </a:rPr>
              <a:t> </a:t>
            </a:r>
            <a:r>
              <a:rPr b="0" lang="en-US" sz="6000" spc="-1" strike="noStrike">
                <a:solidFill>
                  <a:srgbClr val="e5ffff"/>
                </a:solidFill>
                <a:latin typeface="Tahoma"/>
                <a:ea typeface="Titr"/>
              </a:rPr>
              <a:t>HBM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Titr"/>
              </a:rPr>
              <a:t>تكيه بر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itr"/>
              </a:rPr>
              <a:t>نقش اعتقادات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Titr"/>
              </a:rPr>
              <a:t>فرد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itr"/>
              </a:rPr>
              <a:t>بر رفتار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Titr"/>
              </a:rPr>
              <a:t> مورد نظ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itr"/>
              </a:rPr>
              <a:t>پيش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Titr"/>
              </a:rPr>
              <a:t>بيني درك رفتار فرد از نظر نگر ش و اعتقاد ف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Titr"/>
              </a:rPr>
              <a:t>فراهم نمودن درك ساده و كاربردي از رفتار فر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Titr"/>
              </a:rPr>
              <a:t>هدايت در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itr"/>
              </a:rPr>
              <a:t>ارزشيابي كيفي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Titr"/>
              </a:rPr>
              <a:t> از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itr"/>
              </a:rPr>
              <a:t> اجزاء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Titr"/>
              </a:rPr>
              <a:t>قابل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itr"/>
              </a:rPr>
              <a:t>سنج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Titr"/>
              </a:rPr>
              <a:t> كابرد ي بودن  آن در رفتار هاي مختلف بهداشتي افرا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tr"/>
              </a:rPr>
              <a:t>  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Titr"/>
              </a:rPr>
              <a:t> در شرايطي كه تهديد درك شده مشهود است كابرد بيشتري دارد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ED07-0892-4ACA-9F44-EB3D58E2E49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9900"/>
                </a:solidFill>
                <a:latin typeface="Tahoma"/>
                <a:cs typeface="B Titr"/>
              </a:rPr>
              <a:t>اهميت الگوي </a:t>
            </a:r>
            <a:r>
              <a:rPr b="0" lang="en-US" sz="6000" spc="-1" strike="noStrike">
                <a:solidFill>
                  <a:srgbClr val="ff9900"/>
                </a:solidFill>
                <a:latin typeface="Tahoma"/>
                <a:ea typeface="B Titr"/>
              </a:rPr>
              <a:t>  </a:t>
            </a:r>
            <a:r>
              <a:rPr b="0" lang="en-US" sz="6000" spc="-1" strike="noStrike">
                <a:solidFill>
                  <a:srgbClr val="ff9900"/>
                </a:solidFill>
                <a:latin typeface="Tahoma"/>
                <a:ea typeface="B Titr"/>
              </a:rPr>
              <a:t>TPB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r" rtl="1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B Koodak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B Koodak"/>
              </a:rPr>
              <a:t>تكيه بر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B Koodak"/>
              </a:rPr>
              <a:t>نقش اعتقادات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B Koodak"/>
              </a:rPr>
              <a:t>فردي و اجتماعي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B Koodak"/>
              </a:rPr>
              <a:t>بر رفتار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B Koodak"/>
              </a:rPr>
              <a:t> مورد نظ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B Koodak"/>
              </a:rPr>
              <a:t>تكيه بر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B Koodak"/>
              </a:rPr>
              <a:t>نقش اعتقادات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B Koodak"/>
              </a:rPr>
              <a:t>و نرم اجتماعي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B Koodak"/>
              </a:rPr>
              <a:t>بر رفتار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B Koodak"/>
              </a:rPr>
              <a:t> مورد نظ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B Koodak"/>
              </a:rPr>
              <a:t>فراهم نمودن شرايط بكار گيري اعتقاد و نگرش فردي و فشار هاي اجتماعي با يكديگر در جهت قصد به رفت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B Koodak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B Koodak"/>
              </a:rPr>
              <a:t>هدايت در جهت علت يابي عدم قصد به رفتار افر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B Koodak"/>
              </a:rPr>
              <a:t>كابرد ي بودن  آن در رفتار هاي مختلف بهداشتي افرا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B Koodak"/>
              </a:rPr>
              <a:t>   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B Koodak"/>
              </a:rPr>
              <a:t> مبتني بر فشار هاي اجتماع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81C6-B220-47E7-8274-0E89E3835B2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9900"/>
                </a:solidFill>
                <a:latin typeface="Tahoma"/>
                <a:cs typeface="B Titr"/>
              </a:rPr>
              <a:t>اهميت الگوي پرسيد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B Koodak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B Koodak"/>
              </a:rPr>
              <a:t>بررسي علت و معلو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B Koodak"/>
              </a:rPr>
              <a:t> </a:t>
            </a:r>
            <a:r>
              <a:rPr b="0" lang="fa-IR" sz="3600" spc="-1" strike="noStrike">
                <a:solidFill>
                  <a:srgbClr val="ffffff"/>
                </a:solidFill>
                <a:latin typeface="Tahoma"/>
                <a:cs typeface="B Koodak"/>
              </a:rPr>
              <a:t>چ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B Koodak"/>
              </a:rPr>
              <a:t>ارچوبي مشخص براي برنامه ريز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B Koodak"/>
              </a:rPr>
              <a:t>تعيين وضعيت مداخله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B Koodak"/>
              </a:rPr>
              <a:t> (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B Koodak"/>
              </a:rPr>
              <a:t>inpu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B Koodak"/>
              </a:rPr>
              <a:t>)، 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B Koodak"/>
              </a:rPr>
              <a:t>مانند آموزش بهداشت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B Koodak"/>
              </a:rPr>
              <a:t>پيش بيني تغييرات مورد نظ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B Koodak"/>
              </a:rPr>
              <a:t>تسهيل در تعيين مسيري كه موجب نتيجه اي مشخص شود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B Koodak"/>
              </a:rPr>
              <a:t> (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B Koodak"/>
              </a:rPr>
              <a:t>Outcom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B Koodak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B Koodak"/>
              </a:rPr>
              <a:t>توجه اي خاص به ارتقاء سلامت و بهبود كيفيت زندگي دارد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B Koodak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  <a:ea typeface="B Koodak"/>
              </a:rPr>
              <a:t>(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  <a:ea typeface="B Koodak"/>
              </a:rPr>
              <a:t>improving quality of life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  <a:ea typeface="B Koodak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8F90-20C4-46EB-9258-E15B6B33170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e5ffff"/>
                </a:solidFill>
                <a:latin typeface="Tahoma"/>
                <a:cs typeface="Titr"/>
              </a:rPr>
              <a:t>براي برنامه ريزي آموزشي موارد زير چه الگويي را مي توانيم انتخاب نماييم؟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Koodak"/>
              </a:rPr>
              <a:t>بهبود تغذيه دانش آموزان ابتدايي شهر اصفها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Koodak"/>
              </a:rPr>
              <a:t>پيشگيري از پوكي استخوان زنان با سن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30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 تا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40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 سال مراجعه كننده به مركز بهداشتت خونس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Koodak"/>
              </a:rPr>
              <a:t>افزايش انگيزه خدمتي كارشناسان مراكز بهداشتي شهرستان ها اصفها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Koodak"/>
              </a:rPr>
              <a:t>پيشگيري از سيگار در بين دانش آموزان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 دبيرستان از دبيرستان هاي شهرضا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D2A8-A5C8-4FF9-8088-64092403279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e5ffff"/>
                </a:solidFill>
                <a:latin typeface="Tahoma"/>
                <a:cs typeface="Titr"/>
              </a:rPr>
              <a:t>براي برنامه ريزي آموزشي موارد زير چه الگويي را مي توانيم انتخاب نماييم؟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Koodak"/>
              </a:rPr>
              <a:t>بهبود تغذيه دانش آموزان ابتدايي شهر اصفها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  <a:ea typeface="Koodak"/>
              </a:rPr>
              <a:t>PRECE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Koodak"/>
              </a:rPr>
              <a:t>پيشگيري از پوكي استخوان زنان با سن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30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 تا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40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 سال مراجعه كننده به مركز جامع سلامت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  <a:ea typeface="Koodak"/>
              </a:rPr>
              <a:t>HB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Kooda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Kooda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Koodak"/>
              </a:rPr>
              <a:t>افزايش انگيزه خدمتي كارشناسان مراكز بهداشتي شهرستان ها ی استان اصفها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  <a:ea typeface="Koodak"/>
              </a:rPr>
              <a:t>PRECEDE- BI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Kooda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Kooda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Koodak"/>
              </a:rPr>
              <a:t>پيشگيري از سيگار در بين دانش آموزان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Koodak"/>
              </a:rPr>
              <a:t> دبيرستان از دبيرستان ها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Koodak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Koodak"/>
              </a:rPr>
              <a:t>شهر اصفها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  <a:ea typeface="Koodak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  <a:ea typeface="Koodak"/>
              </a:rPr>
              <a:t>TP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500C-0EB0-47E5-99F7-3A705A0BB48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مراحل الگوي پرسيد/ پروسي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شخيص (ارزيابي) اجتماع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شخيص (ارزيابي) اپيدميولوژي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شخيص (ارزيابي) رفتا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شخيص (ارزيابي) آموزش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شخيص (ارزيابي) اجراي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جراي برنامه مداخل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رزشيابي برنامه (شامل ارزشيابي فرآيند، اثر و پيامد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0577-59B8-4D97-A29F-8DC12E6CBF0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تشخ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ص اجتماع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درک مردم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ک جامعه از 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زها و 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ف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زند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Qualit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)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و تعيين محور مداخله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زسنج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از جامع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Needs Assess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)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با استفاده از فعا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مختلف جمع آو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داده ها شامل مصاحبه، گروه 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متمرکز، مشاهده و انواع پ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م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ش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Surv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)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شناخت بيشتر جامعه منتخب بر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مداخل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نتخاب مشکل اجتما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ه بر ر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ف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زند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جامعه تاث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 منف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گذاشته است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FD52-611F-4500-A723-30643D4A0A3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در 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مرحله مشخص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گردد که از نظر مستندات موجود کدام مشکلات سلام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ب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شت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اه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را در جامعه دارن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با استفاده از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زان 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مرگ و ابتلا و س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 داده 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ثان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ه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Secondary Da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)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در جامعه، مشکلات ته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دکننده سلامت و ز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گروه 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درمعرض خطر مشخص مي گرد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در 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مرحله هدف گذ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برنامه مداخله انجام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Goals and Objectives Set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تشخ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ص اپ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دم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ولوژ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977D-E8FD-4831-87F6-6224AB0DF6C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مرحله عوامل رفت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و غ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 رفت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را که در پ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د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ش مشکل سلامت جامعه مورد نظر دخ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ل هستند مشخص مي کن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در مورد عوامل رفت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، استراتژ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آموزش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(به همراه بازاريابي اجتماعي و قانون) کاربرد دارند در حا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ه بر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عوامل غ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رفت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استراتژ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فراتر از آموزش 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ز اس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عوامل رفت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انتخاب شده درجه بن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شوند و اول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پرداختن به آنها مشخص مي گردد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تشخ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ص رفتار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ea typeface="Lotus"/>
              </a:rPr>
              <a:t> و مح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ط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C503-F0A8-4EAF-B96C-C1D1F92AE3D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در مورد ه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ک از عوامل رفت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موثر در بروز مشکل سلامت جامعه، عوامل مساعد کننده، قادرکننده و تق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کننده ت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مي شوند تا جهت گيري نهايي برنامه مشخص گرد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عوامل مساعد کننده: عوام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هستند که قبل از رفتار وجود دارند و توج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ه و ان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زه رفتار را فراهم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ن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عوامل قادرکننده: عوام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هستند که قبل از رفتار وجود دارند و اجازه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دهند تا ان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زه بر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ک رفتار تحقق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ب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عوامل تق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کننده: بعد از رفتار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آ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د و تداوم آن را با اصرار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 تکرار رفتار ت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نن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تشخ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ص آموزش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F6BE-2C52-4C7A-83A8-ED43D118F7C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عوامل مساعدکننده: دانش، نگرش و باورهاي افراد، ترج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حات فر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، مهارت 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موجود از قبل و خودکارآم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3560" indent="-49356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عوامل قادرکننده: عوام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ه مستق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م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 غ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مستق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م از ط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ق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ک عامل مح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ط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بر ر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رفتار تاث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گذارند. برنامه ها، خدمات و منابع مورد 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ز بر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تحقق پ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مد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رفت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و مح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ط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، و در بعض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موارد مهارت 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ج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ه بر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قادرساز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تغ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 رفتار 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ز اس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3560" indent="-49356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عوامل تق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کننده: شامل حم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اجتما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، تاث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 افراد همسان، افراد مهم و مرجع و سايرتق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کننده 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تشخ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ص آموزش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02AF-CC23-4B0B-A7D5-11F5EF3F769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وجه در 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مرحله از مدل معطوف به ابعاد اجر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و س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ستگز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برنامه خواهد بو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س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س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Poli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)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: مجموعه اهداف و قوا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ه فعا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ک سازمان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 م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را هد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کن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مقرر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Regul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)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: منظور عمل اجر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س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ست ها و قوا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ن و مقررات حم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ت کننده اس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سازما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Lotus"/>
              </a:rPr>
              <a:t>)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: جمع کردن و هماهن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منابع مورد 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از بر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اجر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Lotu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Lotus"/>
              </a:rPr>
              <a:t>ي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cs typeface="Lotus"/>
              </a:rPr>
              <a:t>ک برنا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تشخ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ص مد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ر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r>
              <a:rPr b="1" lang="fa-IR" sz="4400" spc="-1" strike="noStrike">
                <a:solidFill>
                  <a:srgbClr val="e5ffff"/>
                </a:solidFill>
                <a:latin typeface="Arial"/>
                <a:cs typeface="Lotus"/>
              </a:rPr>
              <a:t>ت</a:t>
            </a:r>
            <a:r>
              <a:rPr b="1" lang="ar-SA" sz="4400" spc="-1" strike="noStrike">
                <a:solidFill>
                  <a:srgbClr val="e5ffff"/>
                </a:solidFill>
                <a:latin typeface="Arial"/>
                <a:cs typeface="Lotus"/>
              </a:rPr>
              <a:t>ي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7:22:02Z</dcterms:created>
  <dc:creator>mohsen</dc:creator>
  <dc:description/>
  <dc:language>en-US</dc:language>
  <cp:lastModifiedBy>DR-shahnazi</cp:lastModifiedBy>
  <dcterms:modified xsi:type="dcterms:W3CDTF">2025-07-15T02:56:12Z</dcterms:modified>
  <cp:revision>43</cp:revision>
  <dc:subject/>
  <dc:title>Slide 1</dc:title>
</cp:coreProperties>
</file>